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2.wmf" ContentType="image/x-wmf"/>
  <Override PartName="/ppt/media/image7.wmf" ContentType="image/x-wmf"/>
  <Override PartName="/ppt/media/image10.wmf" ContentType="image/x-wmf"/>
  <Override PartName="/ppt/media/image6.png" ContentType="image/png"/>
  <Override PartName="/ppt/media/image14.wmf" ContentType="image/x-wmf"/>
  <Override PartName="/ppt/media/image23.wmf" ContentType="image/x-wmf"/>
  <Override PartName="/ppt/media/image22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.jpeg" ContentType="image/jpeg"/>
  <Override PartName="/ppt/media/image15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70128-B06D-420A-B5F3-729BEF7F5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EBE9C-D399-4F2A-8D44-4964C7DCF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51C16-B3EA-4337-B342-65621A77B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B65C9-5D27-4D9D-8110-88F786135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B3914-8A2D-41F4-BF09-3A0AFF280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82DC9-97FF-4C8B-B781-4B2FD1CDD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E8970-C477-4F84-B088-BE51EAD7E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C6435-69AE-45EA-B011-5762F0118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75516-31AE-47E0-B5E5-ED3A06A0E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FDC5E-AB9E-4E49-B38D-E827B545F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581FD-3A3F-45D0-983E-AAA00E3BD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D2FB6-EB07-4688-8685-420E55585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81324-50C7-4697-B54E-9C5662B1538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2.wmf"/><Relationship Id="rId4" Type="http://schemas.openxmlformats.org/officeDocument/2006/relationships/slide" Target="slide2.xml"/><Relationship Id="rId5" Type="http://schemas.openxmlformats.org/officeDocument/2006/relationships/slide" Target="slide2.xml"/><Relationship Id="rId6" Type="http://schemas.openxmlformats.org/officeDocument/2006/relationships/slide" Target="slide2.xml"/><Relationship Id="rId7" Type="http://schemas.openxmlformats.org/officeDocument/2006/relationships/slide" Target="slide3.xml"/><Relationship Id="rId8" Type="http://schemas.openxmlformats.org/officeDocument/2006/relationships/slide" Target="slide2.xml"/><Relationship Id="rId9" Type="http://schemas.openxmlformats.org/officeDocument/2006/relationships/slide" Target="slide12.xml"/><Relationship Id="rId10" Type="http://schemas.openxmlformats.org/officeDocument/2006/relationships/slide" Target="slide4.xml"/><Relationship Id="rId11" Type="http://schemas.openxmlformats.org/officeDocument/2006/relationships/slide" Target="slide16.xml"/><Relationship Id="rId12" Type="http://schemas.openxmlformats.org/officeDocument/2006/relationships/slide" Target="slide18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9.xml"/><Relationship Id="rId16" Type="http://schemas.openxmlformats.org/officeDocument/2006/relationships/slide" Target="slide10.xml"/><Relationship Id="rId17" Type="http://schemas.openxmlformats.org/officeDocument/2006/relationships/slide" Target="slide17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20.xml"/><Relationship Id="rId21" Type="http://schemas.openxmlformats.org/officeDocument/2006/relationships/slide" Target="slide13.xml"/><Relationship Id="rId22" Type="http://schemas.openxmlformats.org/officeDocument/2006/relationships/slide" Target="slide7.xml"/><Relationship Id="rId23" Type="http://schemas.openxmlformats.org/officeDocument/2006/relationships/slide" Target="slide21.xml"/><Relationship Id="rId24" Type="http://schemas.openxmlformats.org/officeDocument/2006/relationships/slide" Target="slide3.xml"/><Relationship Id="rId25" Type="http://schemas.openxmlformats.org/officeDocument/2006/relationships/slide" Target="slide8.xml"/><Relationship Id="rId26" Type="http://schemas.openxmlformats.org/officeDocument/2006/relationships/slide" Target="slide22.xml"/><Relationship Id="rId27" Type="http://schemas.openxmlformats.org/officeDocument/2006/relationships/slide" Target="slide23.xml"/><Relationship Id="rId28" Type="http://schemas.openxmlformats.org/officeDocument/2006/relationships/slide" Target="slide24.xml"/><Relationship Id="rId29" Type="http://schemas.openxmlformats.org/officeDocument/2006/relationships/slide" Target="slide25.xml"/><Relationship Id="rId30" Type="http://schemas.openxmlformats.org/officeDocument/2006/relationships/slide" Target="slide26.xml"/><Relationship Id="rId31" Type="http://schemas.openxmlformats.org/officeDocument/2006/relationships/slide" Target="slide27.xml"/><Relationship Id="rId32" Type="http://schemas.openxmlformats.org/officeDocument/2006/relationships/slide" Target="slide28.xml"/><Relationship Id="rId33" Type="http://schemas.openxmlformats.org/officeDocument/2006/relationships/slide" Target="slide29.xml"/><Relationship Id="rId34" Type="http://schemas.openxmlformats.org/officeDocument/2006/relationships/slide" Target="slide30.xml"/><Relationship Id="rId35" Type="http://schemas.openxmlformats.org/officeDocument/2006/relationships/slide" Target="slide31.xml"/><Relationship Id="rId36" Type="http://schemas.openxmlformats.org/officeDocument/2006/relationships/slide" Target="slide32.xml"/><Relationship Id="rId3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.xml"/><Relationship Id="rId3" Type="http://schemas.openxmlformats.org/officeDocument/2006/relationships/oleObject" Target="../embeddings/oleObject1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.xml"/><Relationship Id="rId3" Type="http://schemas.openxmlformats.org/officeDocument/2006/relationships/oleObject" Target="../embeddings/oleObject1.bin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.xml"/><Relationship Id="rId3" Type="http://schemas.openxmlformats.org/officeDocument/2006/relationships/oleObject" Target="../embeddings/oleObject1.bin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5.xml"/><Relationship Id="rId3" Type="http://schemas.openxmlformats.org/officeDocument/2006/relationships/oleObject" Target="../embeddings/oleObject1.bin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99"/>
                </a:solidFill>
                <a:latin typeface="Copperplate Gothic Bold"/>
              </a:rPr>
              <a:t>J E O P A R D Y !!!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461880" y="839880"/>
          <a:ext cx="8166240" cy="16542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1880" y="839880"/>
                    <a:ext cx="8166240" cy="16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" name="">
            <a:hlinkClick r:id="rId4" action="ppaction://hlinksldjump"/>
          </p:cNvPr>
          <p:cNvSpPr/>
          <p:nvPr/>
        </p:nvSpPr>
        <p:spPr>
          <a:xfrm>
            <a:off x="533520" y="3505320"/>
            <a:ext cx="1371600" cy="761760"/>
          </a:xfrm>
          <a:custGeom>
            <a:avLst/>
            <a:gdLst>
              <a:gd name="textAreaLeft" fmla="*/ 49320 w 1371600"/>
              <a:gd name="textAreaRight" fmla="*/ 1322280 w 137160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38884" h="21600">
                <a:moveTo>
                  <a:pt x="0" y="0"/>
                </a:moveTo>
                <a:lnTo>
                  <a:pt x="38884" y="0"/>
                </a:lnTo>
                <a:lnTo>
                  <a:pt x="38884" y="21600"/>
                </a:lnTo>
                <a:lnTo>
                  <a:pt x="0" y="21600"/>
                </a:lnTo>
                <a:close/>
              </a:path>
              <a:path fill="lightenLess" w="38884" h="21600">
                <a:moveTo>
                  <a:pt x="0" y="0"/>
                </a:moveTo>
                <a:lnTo>
                  <a:pt x="38884" y="0"/>
                </a:lnTo>
                <a:lnTo>
                  <a:pt x="37484" y="1400"/>
                </a:lnTo>
                <a:lnTo>
                  <a:pt x="1400" y="1400"/>
                </a:lnTo>
                <a:close/>
              </a:path>
              <a:path fill="darken" w="38884" h="21600">
                <a:moveTo>
                  <a:pt x="38884" y="0"/>
                </a:moveTo>
                <a:lnTo>
                  <a:pt x="38884" y="21600"/>
                </a:lnTo>
                <a:lnTo>
                  <a:pt x="37484" y="20200"/>
                </a:lnTo>
                <a:lnTo>
                  <a:pt x="37484" y="1400"/>
                </a:lnTo>
                <a:close/>
              </a:path>
              <a:path fill="darkenLess" w="38884" h="21600">
                <a:moveTo>
                  <a:pt x="388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84" y="20200"/>
                </a:lnTo>
                <a:close/>
              </a:path>
              <a:path fill="lighten" w="388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">
            <a:hlinkClick r:id="rId5" action="ppaction://hlinksldjump"/>
          </p:cNvPr>
          <p:cNvSpPr/>
          <p:nvPr/>
        </p:nvSpPr>
        <p:spPr>
          <a:xfrm>
            <a:off x="533520" y="4267080"/>
            <a:ext cx="1371600" cy="762120"/>
          </a:xfrm>
          <a:custGeom>
            <a:avLst/>
            <a:gdLst>
              <a:gd name="textAreaLeft" fmla="*/ 49320 w 1371600"/>
              <a:gd name="textAreaRight" fmla="*/ 1322280 w 13716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8866" h="21600">
                <a:moveTo>
                  <a:pt x="0" y="0"/>
                </a:moveTo>
                <a:lnTo>
                  <a:pt x="38866" y="0"/>
                </a:lnTo>
                <a:lnTo>
                  <a:pt x="38866" y="21600"/>
                </a:lnTo>
                <a:lnTo>
                  <a:pt x="0" y="21600"/>
                </a:lnTo>
                <a:close/>
              </a:path>
              <a:path fill="lightenLess" w="38866" h="21600">
                <a:moveTo>
                  <a:pt x="0" y="0"/>
                </a:moveTo>
                <a:lnTo>
                  <a:pt x="38866" y="0"/>
                </a:lnTo>
                <a:lnTo>
                  <a:pt x="37466" y="1400"/>
                </a:lnTo>
                <a:lnTo>
                  <a:pt x="1400" y="1400"/>
                </a:lnTo>
                <a:close/>
              </a:path>
              <a:path fill="darken" w="38866" h="21600">
                <a:moveTo>
                  <a:pt x="38866" y="0"/>
                </a:moveTo>
                <a:lnTo>
                  <a:pt x="38866" y="21600"/>
                </a:lnTo>
                <a:lnTo>
                  <a:pt x="37466" y="20200"/>
                </a:lnTo>
                <a:lnTo>
                  <a:pt x="37466" y="1400"/>
                </a:lnTo>
                <a:close/>
              </a:path>
              <a:path fill="darkenLess" w="38866" h="21600">
                <a:moveTo>
                  <a:pt x="388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66" y="20200"/>
                </a:lnTo>
                <a:close/>
              </a:path>
              <a:path fill="lighten" w="388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>
            <a:hlinkClick r:id="rId6" action="ppaction://hlinksldjump"/>
          </p:cNvPr>
          <p:cNvSpPr/>
          <p:nvPr/>
        </p:nvSpPr>
        <p:spPr>
          <a:xfrm>
            <a:off x="609480" y="4952880"/>
            <a:ext cx="1371600" cy="762120"/>
          </a:xfrm>
          <a:custGeom>
            <a:avLst/>
            <a:gdLst>
              <a:gd name="textAreaLeft" fmla="*/ 49320 w 1371600"/>
              <a:gd name="textAreaRight" fmla="*/ 1322280 w 13716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8866" h="21600">
                <a:moveTo>
                  <a:pt x="0" y="0"/>
                </a:moveTo>
                <a:lnTo>
                  <a:pt x="38866" y="0"/>
                </a:lnTo>
                <a:lnTo>
                  <a:pt x="38866" y="21600"/>
                </a:lnTo>
                <a:lnTo>
                  <a:pt x="0" y="21600"/>
                </a:lnTo>
                <a:close/>
              </a:path>
              <a:path fill="lightenLess" w="38866" h="21600">
                <a:moveTo>
                  <a:pt x="0" y="0"/>
                </a:moveTo>
                <a:lnTo>
                  <a:pt x="38866" y="0"/>
                </a:lnTo>
                <a:lnTo>
                  <a:pt x="37466" y="1400"/>
                </a:lnTo>
                <a:lnTo>
                  <a:pt x="1400" y="1400"/>
                </a:lnTo>
                <a:close/>
              </a:path>
              <a:path fill="darken" w="38866" h="21600">
                <a:moveTo>
                  <a:pt x="38866" y="0"/>
                </a:moveTo>
                <a:lnTo>
                  <a:pt x="38866" y="21600"/>
                </a:lnTo>
                <a:lnTo>
                  <a:pt x="37466" y="20200"/>
                </a:lnTo>
                <a:lnTo>
                  <a:pt x="37466" y="1400"/>
                </a:lnTo>
                <a:close/>
              </a:path>
              <a:path fill="darkenLess" w="38866" h="21600">
                <a:moveTo>
                  <a:pt x="388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66" y="20200"/>
                </a:lnTo>
                <a:close/>
              </a:path>
              <a:path fill="lighten" w="388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>
            <a:hlinkClick r:id="rId7" action="ppaction://hlinksldjump"/>
          </p:cNvPr>
          <p:cNvSpPr/>
          <p:nvPr/>
        </p:nvSpPr>
        <p:spPr>
          <a:xfrm>
            <a:off x="762120" y="2895480"/>
            <a:ext cx="1371600" cy="762120"/>
          </a:xfrm>
          <a:custGeom>
            <a:avLst/>
            <a:gdLst>
              <a:gd name="textAreaLeft" fmla="*/ 49320 w 1371600"/>
              <a:gd name="textAreaRight" fmla="*/ 1322280 w 13716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8866" h="21600">
                <a:moveTo>
                  <a:pt x="0" y="0"/>
                </a:moveTo>
                <a:lnTo>
                  <a:pt x="38866" y="0"/>
                </a:lnTo>
                <a:lnTo>
                  <a:pt x="38866" y="21600"/>
                </a:lnTo>
                <a:lnTo>
                  <a:pt x="0" y="21600"/>
                </a:lnTo>
                <a:close/>
              </a:path>
              <a:path fill="lightenLess" w="38866" h="21600">
                <a:moveTo>
                  <a:pt x="0" y="0"/>
                </a:moveTo>
                <a:lnTo>
                  <a:pt x="38866" y="0"/>
                </a:lnTo>
                <a:lnTo>
                  <a:pt x="37466" y="1400"/>
                </a:lnTo>
                <a:lnTo>
                  <a:pt x="1400" y="1400"/>
                </a:lnTo>
                <a:close/>
              </a:path>
              <a:path fill="darken" w="38866" h="21600">
                <a:moveTo>
                  <a:pt x="38866" y="0"/>
                </a:moveTo>
                <a:lnTo>
                  <a:pt x="38866" y="21600"/>
                </a:lnTo>
                <a:lnTo>
                  <a:pt x="37466" y="20200"/>
                </a:lnTo>
                <a:lnTo>
                  <a:pt x="37466" y="1400"/>
                </a:lnTo>
                <a:close/>
              </a:path>
              <a:path fill="darkenLess" w="38866" h="21600">
                <a:moveTo>
                  <a:pt x="388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66" y="20200"/>
                </a:lnTo>
                <a:close/>
              </a:path>
              <a:path fill="lighten" w="388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>
            <a:hlinkClick r:id="rId8" action="ppaction://hlinksldjump"/>
          </p:cNvPr>
          <p:cNvSpPr/>
          <p:nvPr/>
        </p:nvSpPr>
        <p:spPr>
          <a:xfrm>
            <a:off x="533520" y="1981080"/>
            <a:ext cx="1371600" cy="83844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empus Sans ITC"/>
              </a:rPr>
              <a:t>200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>
            <a:hlinkClick r:id="rId9" action="ppaction://hlinksldjump"/>
          </p:cNvPr>
          <p:cNvSpPr/>
          <p:nvPr/>
        </p:nvSpPr>
        <p:spPr>
          <a:xfrm>
            <a:off x="3200400" y="1981080"/>
            <a:ext cx="1371600" cy="83844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empus Sans ITC"/>
              </a:rPr>
              <a:t>200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>
            <a:hlinkClick r:id="rId10" action="ppaction://hlinksldjump"/>
          </p:cNvPr>
          <p:cNvSpPr/>
          <p:nvPr/>
        </p:nvSpPr>
        <p:spPr>
          <a:xfrm>
            <a:off x="533520" y="3581280"/>
            <a:ext cx="1371600" cy="83844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empus Sans ITC"/>
              </a:rPr>
              <a:t>600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>
            <a:hlinkClick r:id="rId11" action="ppaction://hlinksldjump"/>
          </p:cNvPr>
          <p:cNvSpPr/>
          <p:nvPr/>
        </p:nvSpPr>
        <p:spPr>
          <a:xfrm>
            <a:off x="3200400" y="4419720"/>
            <a:ext cx="1371600" cy="83808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empus Sans ITC"/>
              </a:rPr>
              <a:t>800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>
            <a:hlinkClick r:id="rId12" action="ppaction://hlinksldjump"/>
          </p:cNvPr>
          <p:cNvSpPr/>
          <p:nvPr/>
        </p:nvSpPr>
        <p:spPr>
          <a:xfrm>
            <a:off x="4572000" y="1981080"/>
            <a:ext cx="1371600" cy="83844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empus Sans ITC"/>
              </a:rPr>
              <a:t>200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>
            <a:hlinkClick r:id="rId13" action="ppaction://hlinksldjump"/>
          </p:cNvPr>
          <p:cNvSpPr/>
          <p:nvPr/>
        </p:nvSpPr>
        <p:spPr>
          <a:xfrm>
            <a:off x="4572000" y="2743200"/>
            <a:ext cx="1371600" cy="83808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empus Sans ITC"/>
              </a:rPr>
              <a:t>400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>
            <a:hlinkClick r:id="rId14" action="ppaction://hlinksldjump"/>
          </p:cNvPr>
          <p:cNvSpPr/>
          <p:nvPr/>
        </p:nvSpPr>
        <p:spPr>
          <a:xfrm>
            <a:off x="533520" y="4419720"/>
            <a:ext cx="1371600" cy="83808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empus Sans ITC"/>
              </a:rPr>
              <a:t>800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>
            <a:hlinkClick r:id="rId15" action="ppaction://hlinksldjump"/>
          </p:cNvPr>
          <p:cNvSpPr/>
          <p:nvPr/>
        </p:nvSpPr>
        <p:spPr>
          <a:xfrm>
            <a:off x="1828800" y="3581280"/>
            <a:ext cx="1371600" cy="83844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empus Sans ITC"/>
              </a:rPr>
              <a:t>600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>
            <a:hlinkClick r:id="rId16" action="ppaction://hlinksldjump"/>
          </p:cNvPr>
          <p:cNvSpPr/>
          <p:nvPr/>
        </p:nvSpPr>
        <p:spPr>
          <a:xfrm>
            <a:off x="1828800" y="4419720"/>
            <a:ext cx="1371600" cy="83808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empus Sans ITC"/>
              </a:rPr>
              <a:t>800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>
            <a:hlinkClick r:id="rId17" action="ppaction://hlinksldjump"/>
          </p:cNvPr>
          <p:cNvSpPr/>
          <p:nvPr/>
        </p:nvSpPr>
        <p:spPr>
          <a:xfrm>
            <a:off x="3200400" y="5257800"/>
            <a:ext cx="1371600" cy="83808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empus Sans ITC"/>
              </a:rPr>
              <a:t>1000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>
            <a:hlinkClick r:id="rId18" action="ppaction://hlinksldjump"/>
          </p:cNvPr>
          <p:cNvSpPr/>
          <p:nvPr/>
        </p:nvSpPr>
        <p:spPr>
          <a:xfrm>
            <a:off x="533520" y="5257800"/>
            <a:ext cx="1371600" cy="83808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empus Sans ITC"/>
              </a:rPr>
              <a:t>1000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>
            <a:hlinkClick r:id="rId19" action="ppaction://hlinksldjump"/>
          </p:cNvPr>
          <p:cNvSpPr/>
          <p:nvPr/>
        </p:nvSpPr>
        <p:spPr>
          <a:xfrm>
            <a:off x="1828800" y="5257800"/>
            <a:ext cx="1371600" cy="83808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empus Sans ITC"/>
              </a:rPr>
              <a:t>1000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>
            <a:hlinkClick r:id="rId20" action="ppaction://hlinksldjump"/>
          </p:cNvPr>
          <p:cNvSpPr/>
          <p:nvPr/>
        </p:nvSpPr>
        <p:spPr>
          <a:xfrm>
            <a:off x="4572000" y="3581280"/>
            <a:ext cx="1371600" cy="83844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empus Sans ITC"/>
              </a:rPr>
              <a:t>600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>
            <a:hlinkClick r:id="rId21" action="ppaction://hlinksldjump"/>
          </p:cNvPr>
          <p:cNvSpPr/>
          <p:nvPr/>
        </p:nvSpPr>
        <p:spPr>
          <a:xfrm>
            <a:off x="3200400" y="2743200"/>
            <a:ext cx="1371600" cy="83808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empus Sans ITC"/>
              </a:rPr>
              <a:t>400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3581280"/>
            <a:ext cx="1371600" cy="83844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empus Sans ITC"/>
              </a:rPr>
              <a:t>600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>
            <a:hlinkClick r:id="rId22" action="ppaction://hlinksldjump"/>
          </p:cNvPr>
          <p:cNvSpPr/>
          <p:nvPr/>
        </p:nvSpPr>
        <p:spPr>
          <a:xfrm>
            <a:off x="1828800" y="1981080"/>
            <a:ext cx="1371600" cy="83844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empus Sans ITC"/>
              </a:rPr>
              <a:t>200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>
            <a:hlinkClick r:id="rId23" action="ppaction://hlinksldjump"/>
          </p:cNvPr>
          <p:cNvSpPr/>
          <p:nvPr/>
        </p:nvSpPr>
        <p:spPr>
          <a:xfrm>
            <a:off x="4572000" y="4419720"/>
            <a:ext cx="1371600" cy="83808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empus Sans ITC"/>
              </a:rPr>
              <a:t>800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>
            <a:hlinkClick r:id="rId24" action="ppaction://hlinksldjump"/>
          </p:cNvPr>
          <p:cNvSpPr/>
          <p:nvPr/>
        </p:nvSpPr>
        <p:spPr>
          <a:xfrm>
            <a:off x="533520" y="2743200"/>
            <a:ext cx="1295280" cy="83808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empus Sans ITC"/>
              </a:rPr>
              <a:t>400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>
            <a:hlinkClick r:id="rId25" action="ppaction://hlinksldjump"/>
          </p:cNvPr>
          <p:cNvSpPr/>
          <p:nvPr/>
        </p:nvSpPr>
        <p:spPr>
          <a:xfrm>
            <a:off x="1828800" y="2743200"/>
            <a:ext cx="1371600" cy="83808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empus Sans ITC"/>
              </a:rPr>
              <a:t>400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>
            <a:hlinkClick r:id="rId26" action="ppaction://hlinksldjump"/>
          </p:cNvPr>
          <p:cNvSpPr/>
          <p:nvPr/>
        </p:nvSpPr>
        <p:spPr>
          <a:xfrm>
            <a:off x="4572000" y="5257800"/>
            <a:ext cx="1371600" cy="83808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empus Sans ITC"/>
              </a:rPr>
              <a:t>1000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>
            <a:hlinkClick r:id="rId27" action="ppaction://hlinksldjump"/>
          </p:cNvPr>
          <p:cNvSpPr/>
          <p:nvPr/>
        </p:nvSpPr>
        <p:spPr>
          <a:xfrm>
            <a:off x="5943600" y="1981080"/>
            <a:ext cx="1371600" cy="83844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empus Sans ITC"/>
              </a:rPr>
              <a:t>200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>
            <a:hlinkClick r:id="rId28" action="ppaction://hlinksldjump"/>
          </p:cNvPr>
          <p:cNvSpPr/>
          <p:nvPr/>
        </p:nvSpPr>
        <p:spPr>
          <a:xfrm>
            <a:off x="5943600" y="2743200"/>
            <a:ext cx="1371600" cy="83808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empus Sans ITC"/>
              </a:rPr>
              <a:t>400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>
            <a:hlinkClick r:id="rId29" action="ppaction://hlinksldjump"/>
          </p:cNvPr>
          <p:cNvSpPr/>
          <p:nvPr/>
        </p:nvSpPr>
        <p:spPr>
          <a:xfrm>
            <a:off x="5943600" y="3581280"/>
            <a:ext cx="1371600" cy="83844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empus Sans ITC"/>
              </a:rPr>
              <a:t>600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>
            <a:hlinkClick r:id="rId30" action="ppaction://hlinksldjump"/>
          </p:cNvPr>
          <p:cNvSpPr/>
          <p:nvPr/>
        </p:nvSpPr>
        <p:spPr>
          <a:xfrm>
            <a:off x="5943600" y="4419720"/>
            <a:ext cx="1371600" cy="83808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empus Sans ITC"/>
              </a:rPr>
              <a:t>800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>
            <a:hlinkClick r:id="rId31" action="ppaction://hlinksldjump"/>
          </p:cNvPr>
          <p:cNvSpPr/>
          <p:nvPr/>
        </p:nvSpPr>
        <p:spPr>
          <a:xfrm>
            <a:off x="5943600" y="5257800"/>
            <a:ext cx="1371600" cy="83808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empus Sans ITC"/>
              </a:rPr>
              <a:t>1000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>
            <a:hlinkClick r:id="rId32" action="ppaction://hlinksldjump"/>
          </p:cNvPr>
          <p:cNvSpPr/>
          <p:nvPr/>
        </p:nvSpPr>
        <p:spPr>
          <a:xfrm>
            <a:off x="7315200" y="1981080"/>
            <a:ext cx="1371600" cy="83844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empus Sans ITC"/>
              </a:rPr>
              <a:t>200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>
            <a:hlinkClick r:id="rId33" action="ppaction://hlinksldjump"/>
          </p:cNvPr>
          <p:cNvSpPr/>
          <p:nvPr/>
        </p:nvSpPr>
        <p:spPr>
          <a:xfrm>
            <a:off x="7315200" y="2743200"/>
            <a:ext cx="1371600" cy="83808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empus Sans ITC"/>
              </a:rPr>
              <a:t>400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>
            <a:hlinkClick r:id="rId34" action="ppaction://hlinksldjump"/>
          </p:cNvPr>
          <p:cNvSpPr/>
          <p:nvPr/>
        </p:nvSpPr>
        <p:spPr>
          <a:xfrm>
            <a:off x="7315200" y="3581280"/>
            <a:ext cx="1371600" cy="83844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empus Sans ITC"/>
              </a:rPr>
              <a:t>600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>
            <a:hlinkClick r:id="rId35" action="ppaction://hlinksldjump"/>
          </p:cNvPr>
          <p:cNvSpPr/>
          <p:nvPr/>
        </p:nvSpPr>
        <p:spPr>
          <a:xfrm>
            <a:off x="7315200" y="4419720"/>
            <a:ext cx="1371600" cy="83808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empus Sans ITC"/>
              </a:rPr>
              <a:t>800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>
            <a:hlinkClick r:id="rId36" action="ppaction://hlinksldjump"/>
          </p:cNvPr>
          <p:cNvSpPr/>
          <p:nvPr/>
        </p:nvSpPr>
        <p:spPr>
          <a:xfrm>
            <a:off x="7315200" y="5257800"/>
            <a:ext cx="1371600" cy="83808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empus Sans ITC"/>
              </a:rPr>
              <a:t>1000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457200" y="762120"/>
            <a:ext cx="8915400" cy="461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empus Sans ITC"/>
              </a:rPr>
              <a:t>800</a:t>
            </a:r>
            <a:r>
              <a:rPr b="0" lang="en-US" sz="2400" spc="-1" strike="noStrike">
                <a:solidFill>
                  <a:srgbClr val="000099"/>
                </a:solidFill>
                <a:latin typeface="Tempus Sans ITC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Tempus Sans ITC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Tempus Sans ITC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Tempus Sans ITC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Tempus Sans ITC"/>
              </a:rPr>
              <a:t>Multiplying and Dividing Integ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99"/>
                </a:solidFill>
                <a:latin typeface="Times New Roman"/>
              </a:rPr>
              <a:t>Which one of the following numbers is divisible by 9?</a:t>
            </a:r>
            <a:endParaRPr b="0" lang="en-US" sz="5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000099"/>
                </a:solidFill>
                <a:latin typeface="Times New Roman"/>
              </a:rPr>
              <a:t>882, 179, 332</a:t>
            </a:r>
            <a:endParaRPr b="0" lang="en-US" sz="1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>
            <a:hlinkClick r:id="" action="ppaction://hlinkshowjump?jump=firstslide"/>
          </p:cNvPr>
          <p:cNvSpPr/>
          <p:nvPr/>
        </p:nvSpPr>
        <p:spPr>
          <a:xfrm>
            <a:off x="2743200" y="5867280"/>
            <a:ext cx="4038480" cy="762120"/>
          </a:xfrm>
          <a:custGeom>
            <a:avLst/>
            <a:gdLst>
              <a:gd name="textAreaLeft" fmla="*/ 49320 w 4038480"/>
              <a:gd name="textAreaRight" fmla="*/ 3989160 w 40384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114415" h="21600">
                <a:moveTo>
                  <a:pt x="0" y="0"/>
                </a:moveTo>
                <a:lnTo>
                  <a:pt x="114415" y="0"/>
                </a:lnTo>
                <a:lnTo>
                  <a:pt x="114415" y="21600"/>
                </a:lnTo>
                <a:lnTo>
                  <a:pt x="0" y="21600"/>
                </a:lnTo>
                <a:close/>
              </a:path>
              <a:path fill="lightenLess" w="114415" h="21600">
                <a:moveTo>
                  <a:pt x="0" y="0"/>
                </a:moveTo>
                <a:lnTo>
                  <a:pt x="114415" y="0"/>
                </a:lnTo>
                <a:lnTo>
                  <a:pt x="113015" y="1400"/>
                </a:lnTo>
                <a:lnTo>
                  <a:pt x="1400" y="1400"/>
                </a:lnTo>
                <a:close/>
              </a:path>
              <a:path fill="darken" w="114415" h="21600">
                <a:moveTo>
                  <a:pt x="114415" y="0"/>
                </a:moveTo>
                <a:lnTo>
                  <a:pt x="114415" y="21600"/>
                </a:lnTo>
                <a:lnTo>
                  <a:pt x="113015" y="20200"/>
                </a:lnTo>
                <a:lnTo>
                  <a:pt x="113015" y="1400"/>
                </a:lnTo>
                <a:close/>
              </a:path>
              <a:path fill="darkenLess" w="114415" h="21600">
                <a:moveTo>
                  <a:pt x="1144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3015" y="20200"/>
                </a:lnTo>
                <a:close/>
              </a:path>
              <a:path fill="lighten" w="1144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99"/>
          </a:solidFill>
          <a:ln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ack to Jeopard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336600" y="762120"/>
            <a:ext cx="8566200" cy="461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empus Sans ITC"/>
              </a:rPr>
              <a:t>1000</a:t>
            </a:r>
            <a:r>
              <a:rPr b="0" lang="en-US" sz="2400" spc="-1" strike="noStrike">
                <a:solidFill>
                  <a:srgbClr val="000099"/>
                </a:solidFill>
                <a:latin typeface="Tempus Sans ITC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Tempus Sans ITC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Tempus Sans ITC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Tempus Sans ITC"/>
              </a:rPr>
              <a:t>Multiplying and Dividing Integ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99"/>
                </a:solidFill>
                <a:latin typeface="Times New Roman"/>
              </a:rPr>
              <a:t>Which one of the following numbers is NOT divisible by 3?</a:t>
            </a:r>
            <a:endParaRPr b="0" lang="en-US" sz="5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000099"/>
                </a:solidFill>
                <a:latin typeface="Times New Roman"/>
              </a:rPr>
              <a:t>819, 390, 121</a:t>
            </a:r>
            <a:endParaRPr b="0" lang="en-US" sz="1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>
            <a:hlinkClick r:id="" action="ppaction://hlinkshowjump?jump=firstslide"/>
          </p:cNvPr>
          <p:cNvSpPr/>
          <p:nvPr/>
        </p:nvSpPr>
        <p:spPr>
          <a:xfrm>
            <a:off x="2743200" y="5867280"/>
            <a:ext cx="4038480" cy="762120"/>
          </a:xfrm>
          <a:custGeom>
            <a:avLst/>
            <a:gdLst>
              <a:gd name="textAreaLeft" fmla="*/ 49320 w 4038480"/>
              <a:gd name="textAreaRight" fmla="*/ 3989160 w 40384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114415" h="21600">
                <a:moveTo>
                  <a:pt x="0" y="0"/>
                </a:moveTo>
                <a:lnTo>
                  <a:pt x="114415" y="0"/>
                </a:lnTo>
                <a:lnTo>
                  <a:pt x="114415" y="21600"/>
                </a:lnTo>
                <a:lnTo>
                  <a:pt x="0" y="21600"/>
                </a:lnTo>
                <a:close/>
              </a:path>
              <a:path fill="lightenLess" w="114415" h="21600">
                <a:moveTo>
                  <a:pt x="0" y="0"/>
                </a:moveTo>
                <a:lnTo>
                  <a:pt x="114415" y="0"/>
                </a:lnTo>
                <a:lnTo>
                  <a:pt x="113015" y="1400"/>
                </a:lnTo>
                <a:lnTo>
                  <a:pt x="1400" y="1400"/>
                </a:lnTo>
                <a:close/>
              </a:path>
              <a:path fill="darken" w="114415" h="21600">
                <a:moveTo>
                  <a:pt x="114415" y="0"/>
                </a:moveTo>
                <a:lnTo>
                  <a:pt x="114415" y="21600"/>
                </a:lnTo>
                <a:lnTo>
                  <a:pt x="113015" y="20200"/>
                </a:lnTo>
                <a:lnTo>
                  <a:pt x="113015" y="1400"/>
                </a:lnTo>
                <a:close/>
              </a:path>
              <a:path fill="darkenLess" w="114415" h="21600">
                <a:moveTo>
                  <a:pt x="1144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3015" y="20200"/>
                </a:lnTo>
                <a:close/>
              </a:path>
              <a:path fill="lighten" w="1144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99"/>
          </a:solidFill>
          <a:ln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ack to Jeopard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066680" y="762120"/>
            <a:ext cx="7162920" cy="31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empus Sans ITC"/>
              </a:rPr>
              <a:t>200</a:t>
            </a:r>
            <a:r>
              <a:rPr b="0" lang="en-US" sz="2400" spc="-1" strike="noStrike">
                <a:solidFill>
                  <a:srgbClr val="000099"/>
                </a:solidFill>
                <a:latin typeface="Tempus Sans ITC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Tempus Sans ITC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Tempus Sans ITC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Tempus Sans ITC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Tempus Sans ITC"/>
              </a:rPr>
              <a:t>         </a:t>
            </a:r>
            <a:r>
              <a:rPr b="1" lang="en-US" sz="2400" spc="-1" strike="noStrike">
                <a:solidFill>
                  <a:srgbClr val="000099"/>
                </a:solidFill>
                <a:latin typeface="Tempus Sans ITC"/>
                <a:ea typeface="Times New Roman"/>
              </a:rPr>
              <a:t>Equivalent Fractions</a:t>
            </a:r>
            <a:r>
              <a:rPr b="0" lang="en-US" sz="2400" spc="-1" strike="noStrike">
                <a:solidFill>
                  <a:srgbClr val="000099"/>
                </a:solidFill>
                <a:latin typeface="Tempus Sans ITC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99"/>
                </a:solidFill>
                <a:latin typeface="Times New Roman"/>
              </a:rPr>
              <a:t>Find n</a:t>
            </a:r>
            <a:r>
              <a:rPr b="0" lang="en-US" sz="50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endParaRPr b="0" lang="en-US" sz="5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>
            <a:hlinkClick r:id="" action="ppaction://hlinkshowjump?jump=firstslide"/>
          </p:cNvPr>
          <p:cNvSpPr/>
          <p:nvPr/>
        </p:nvSpPr>
        <p:spPr>
          <a:xfrm>
            <a:off x="2743200" y="5867280"/>
            <a:ext cx="4038480" cy="762120"/>
          </a:xfrm>
          <a:custGeom>
            <a:avLst/>
            <a:gdLst>
              <a:gd name="textAreaLeft" fmla="*/ 49320 w 4038480"/>
              <a:gd name="textAreaRight" fmla="*/ 3989160 w 40384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114415" h="21600">
                <a:moveTo>
                  <a:pt x="0" y="0"/>
                </a:moveTo>
                <a:lnTo>
                  <a:pt x="114415" y="0"/>
                </a:lnTo>
                <a:lnTo>
                  <a:pt x="114415" y="21600"/>
                </a:lnTo>
                <a:lnTo>
                  <a:pt x="0" y="21600"/>
                </a:lnTo>
                <a:close/>
              </a:path>
              <a:path fill="lightenLess" w="114415" h="21600">
                <a:moveTo>
                  <a:pt x="0" y="0"/>
                </a:moveTo>
                <a:lnTo>
                  <a:pt x="114415" y="0"/>
                </a:lnTo>
                <a:lnTo>
                  <a:pt x="113015" y="1400"/>
                </a:lnTo>
                <a:lnTo>
                  <a:pt x="1400" y="1400"/>
                </a:lnTo>
                <a:close/>
              </a:path>
              <a:path fill="darken" w="114415" h="21600">
                <a:moveTo>
                  <a:pt x="114415" y="0"/>
                </a:moveTo>
                <a:lnTo>
                  <a:pt x="114415" y="21600"/>
                </a:lnTo>
                <a:lnTo>
                  <a:pt x="113015" y="20200"/>
                </a:lnTo>
                <a:lnTo>
                  <a:pt x="113015" y="1400"/>
                </a:lnTo>
                <a:close/>
              </a:path>
              <a:path fill="darkenLess" w="114415" h="21600">
                <a:moveTo>
                  <a:pt x="1144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3015" y="20200"/>
                </a:lnTo>
                <a:close/>
              </a:path>
              <a:path fill="lighten" w="1144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99"/>
          </a:solidFill>
          <a:ln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ack to Jeopard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3819600" y="1650960"/>
          <a:ext cx="4038480" cy="3328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19600" y="1650960"/>
                    <a:ext cx="4038480" cy="332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990720" y="762120"/>
            <a:ext cx="7640640" cy="30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empus Sans ITC"/>
              </a:rPr>
              <a:t>400</a:t>
            </a:r>
            <a:r>
              <a:rPr b="0" lang="en-US" sz="2400" spc="-1" strike="noStrike">
                <a:solidFill>
                  <a:srgbClr val="000099"/>
                </a:solidFill>
                <a:latin typeface="Tempus Sans ITC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Tempus Sans ITC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Tempus Sans ITC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Tempus Sans ITC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Tempus Sans ITC"/>
              </a:rPr>
              <a:t>            </a:t>
            </a:r>
            <a:r>
              <a:rPr b="1" lang="en-US" sz="2400" spc="-1" strike="noStrike">
                <a:solidFill>
                  <a:srgbClr val="000099"/>
                </a:solidFill>
                <a:latin typeface="Tempus Sans ITC"/>
                <a:ea typeface="Times New Roman"/>
              </a:rPr>
              <a:t>Equivalent Fractions</a:t>
            </a:r>
            <a:r>
              <a:rPr b="0" lang="en-US" sz="2400" spc="-1" strike="noStrike">
                <a:solidFill>
                  <a:srgbClr val="000099"/>
                </a:solidFill>
                <a:latin typeface="Tempus Sans ITC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99"/>
                </a:solidFill>
                <a:latin typeface="Times New Roman"/>
              </a:rPr>
              <a:t>Find w.</a:t>
            </a:r>
            <a:r>
              <a:rPr b="0" lang="en-US" sz="50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endParaRPr b="0" lang="en-US" sz="5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>
            <a:hlinkClick r:id="" action="ppaction://hlinkshowjump?jump=firstslide"/>
          </p:cNvPr>
          <p:cNvSpPr/>
          <p:nvPr/>
        </p:nvSpPr>
        <p:spPr>
          <a:xfrm>
            <a:off x="2743200" y="5867280"/>
            <a:ext cx="4038480" cy="762120"/>
          </a:xfrm>
          <a:custGeom>
            <a:avLst/>
            <a:gdLst>
              <a:gd name="textAreaLeft" fmla="*/ 49320 w 4038480"/>
              <a:gd name="textAreaRight" fmla="*/ 3989160 w 40384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114415" h="21600">
                <a:moveTo>
                  <a:pt x="0" y="0"/>
                </a:moveTo>
                <a:lnTo>
                  <a:pt x="114415" y="0"/>
                </a:lnTo>
                <a:lnTo>
                  <a:pt x="114415" y="21600"/>
                </a:lnTo>
                <a:lnTo>
                  <a:pt x="0" y="21600"/>
                </a:lnTo>
                <a:close/>
              </a:path>
              <a:path fill="lightenLess" w="114415" h="21600">
                <a:moveTo>
                  <a:pt x="0" y="0"/>
                </a:moveTo>
                <a:lnTo>
                  <a:pt x="114415" y="0"/>
                </a:lnTo>
                <a:lnTo>
                  <a:pt x="113015" y="1400"/>
                </a:lnTo>
                <a:lnTo>
                  <a:pt x="1400" y="1400"/>
                </a:lnTo>
                <a:close/>
              </a:path>
              <a:path fill="darken" w="114415" h="21600">
                <a:moveTo>
                  <a:pt x="114415" y="0"/>
                </a:moveTo>
                <a:lnTo>
                  <a:pt x="114415" y="21600"/>
                </a:lnTo>
                <a:lnTo>
                  <a:pt x="113015" y="20200"/>
                </a:lnTo>
                <a:lnTo>
                  <a:pt x="113015" y="1400"/>
                </a:lnTo>
                <a:close/>
              </a:path>
              <a:path fill="darkenLess" w="114415" h="21600">
                <a:moveTo>
                  <a:pt x="1144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3015" y="20200"/>
                </a:lnTo>
                <a:close/>
              </a:path>
              <a:path fill="lighten" w="1144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99"/>
          </a:solidFill>
          <a:ln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ack to Jeopard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3529080" y="1805040"/>
          <a:ext cx="5102280" cy="3305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529080" y="1805040"/>
                    <a:ext cx="5102280" cy="330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3505320" y="1752480"/>
            <a:ext cx="2286000" cy="100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empus Sans ITC"/>
              </a:rPr>
              <a:t>daily</a:t>
            </a:r>
            <a:endParaRPr b="0" lang="en-US" sz="32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empus Sans ITC"/>
              <a:ea typeface="Tempus Sans ITC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905120" y="2819520"/>
            <a:ext cx="5143320" cy="1730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 </a:t>
            </a:r>
            <a:r>
              <a:rPr b="0" lang="en-US" sz="24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DOUBLE</a:t>
            </a:r>
            <a:endParaRPr b="0" lang="en-US" sz="24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533520" y="762120"/>
            <a:ext cx="8076960" cy="31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empus Sans ITC"/>
              </a:rPr>
              <a:t>Daily Double</a:t>
            </a:r>
            <a:r>
              <a:rPr b="0" lang="en-US" sz="2400" spc="-1" strike="noStrike">
                <a:solidFill>
                  <a:srgbClr val="000099"/>
                </a:solidFill>
                <a:latin typeface="Tempus Sans ITC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Tempus Sans ITC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Tempus Sans ITC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Tempus Sans ITC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Tempus Sans ITC"/>
              </a:rPr>
              <a:t>         </a:t>
            </a:r>
            <a:r>
              <a:rPr b="1" lang="en-US" sz="2400" spc="-1" strike="noStrike">
                <a:solidFill>
                  <a:srgbClr val="000099"/>
                </a:solidFill>
                <a:latin typeface="Tempus Sans ITC"/>
                <a:ea typeface="Times New Roman"/>
              </a:rPr>
              <a:t>Equivalent Fractions</a:t>
            </a:r>
            <a:r>
              <a:rPr b="0" lang="en-US" sz="2400" spc="-1" strike="noStrike">
                <a:solidFill>
                  <a:srgbClr val="000099"/>
                </a:solidFill>
                <a:latin typeface="Tempus Sans ITC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99"/>
                </a:solidFill>
                <a:latin typeface="Times New Roman"/>
              </a:rPr>
              <a:t>Find t.</a:t>
            </a:r>
            <a:r>
              <a:rPr b="0" lang="en-US" sz="50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endParaRPr b="0" lang="en-US" sz="5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>
            <a:hlinkClick r:id="" action="ppaction://hlinkshowjump?jump=firstslide"/>
          </p:cNvPr>
          <p:cNvSpPr/>
          <p:nvPr/>
        </p:nvSpPr>
        <p:spPr>
          <a:xfrm>
            <a:off x="2590920" y="5791320"/>
            <a:ext cx="4038480" cy="761760"/>
          </a:xfrm>
          <a:custGeom>
            <a:avLst/>
            <a:gdLst>
              <a:gd name="textAreaLeft" fmla="*/ 49320 w 4038480"/>
              <a:gd name="textAreaRight" fmla="*/ 3989160 w 403848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114469" h="21600">
                <a:moveTo>
                  <a:pt x="0" y="0"/>
                </a:moveTo>
                <a:lnTo>
                  <a:pt x="114469" y="0"/>
                </a:lnTo>
                <a:lnTo>
                  <a:pt x="114469" y="21600"/>
                </a:lnTo>
                <a:lnTo>
                  <a:pt x="0" y="21600"/>
                </a:lnTo>
                <a:close/>
              </a:path>
              <a:path fill="lightenLess" w="114469" h="21600">
                <a:moveTo>
                  <a:pt x="0" y="0"/>
                </a:moveTo>
                <a:lnTo>
                  <a:pt x="114469" y="0"/>
                </a:lnTo>
                <a:lnTo>
                  <a:pt x="113069" y="1400"/>
                </a:lnTo>
                <a:lnTo>
                  <a:pt x="1400" y="1400"/>
                </a:lnTo>
                <a:close/>
              </a:path>
              <a:path fill="darken" w="114469" h="21600">
                <a:moveTo>
                  <a:pt x="114469" y="0"/>
                </a:moveTo>
                <a:lnTo>
                  <a:pt x="114469" y="21600"/>
                </a:lnTo>
                <a:lnTo>
                  <a:pt x="113069" y="20200"/>
                </a:lnTo>
                <a:lnTo>
                  <a:pt x="113069" y="1400"/>
                </a:lnTo>
                <a:close/>
              </a:path>
              <a:path fill="darkenLess" w="114469" h="21600">
                <a:moveTo>
                  <a:pt x="1144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3069" y="20200"/>
                </a:lnTo>
                <a:close/>
              </a:path>
              <a:path fill="lighten" w="1144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99"/>
          </a:solidFill>
          <a:ln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ack to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Jeopard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3062160" y="1596960"/>
          <a:ext cx="4631040" cy="3987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62160" y="1596960"/>
                    <a:ext cx="4631040" cy="398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66680" y="762120"/>
            <a:ext cx="7162920" cy="40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997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empus Sans ITC"/>
              </a:rPr>
              <a:t>800</a:t>
            </a:r>
            <a:r>
              <a:rPr b="0" lang="en-US" sz="2400" spc="-1" strike="noStrike">
                <a:solidFill>
                  <a:srgbClr val="000099"/>
                </a:solidFill>
                <a:latin typeface="Tempus Sans ITC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Tempus Sans ITC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Tempus Sans ITC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Tempus Sans ITC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Tempus Sans ITC"/>
              </a:rPr>
              <a:t>        E</a:t>
            </a:r>
            <a:r>
              <a:rPr b="1" lang="en-US" sz="2400" spc="-1" strike="noStrike">
                <a:solidFill>
                  <a:srgbClr val="000099"/>
                </a:solidFill>
                <a:latin typeface="Tempus Sans ITC"/>
                <a:ea typeface="Times New Roman"/>
              </a:rPr>
              <a:t>quivalent Frac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ts val="4997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99"/>
                </a:solidFill>
                <a:latin typeface="Times New Roman"/>
              </a:rPr>
              <a:t>Which of the following fractions do not belong?</a:t>
            </a:r>
            <a:endParaRPr b="0" lang="en-US" sz="5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ts val="4997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>
            <a:hlinkClick r:id="" action="ppaction://hlinkshowjump?jump=lastslide"/>
          </p:cNvPr>
          <p:cNvSpPr/>
          <p:nvPr/>
        </p:nvSpPr>
        <p:spPr>
          <a:xfrm>
            <a:off x="2743200" y="5867280"/>
            <a:ext cx="4038480" cy="762120"/>
          </a:xfrm>
          <a:custGeom>
            <a:avLst/>
            <a:gdLst>
              <a:gd name="textAreaLeft" fmla="*/ 49320 w 4038480"/>
              <a:gd name="textAreaRight" fmla="*/ 3989160 w 40384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114415" h="21600">
                <a:moveTo>
                  <a:pt x="0" y="0"/>
                </a:moveTo>
                <a:lnTo>
                  <a:pt x="114415" y="0"/>
                </a:lnTo>
                <a:lnTo>
                  <a:pt x="114415" y="21600"/>
                </a:lnTo>
                <a:lnTo>
                  <a:pt x="0" y="21600"/>
                </a:lnTo>
                <a:close/>
              </a:path>
              <a:path fill="lightenLess" w="114415" h="21600">
                <a:moveTo>
                  <a:pt x="0" y="0"/>
                </a:moveTo>
                <a:lnTo>
                  <a:pt x="114415" y="0"/>
                </a:lnTo>
                <a:lnTo>
                  <a:pt x="113015" y="1400"/>
                </a:lnTo>
                <a:lnTo>
                  <a:pt x="1400" y="1400"/>
                </a:lnTo>
                <a:close/>
              </a:path>
              <a:path fill="darken" w="114415" h="21600">
                <a:moveTo>
                  <a:pt x="114415" y="0"/>
                </a:moveTo>
                <a:lnTo>
                  <a:pt x="114415" y="21600"/>
                </a:lnTo>
                <a:lnTo>
                  <a:pt x="113015" y="20200"/>
                </a:lnTo>
                <a:lnTo>
                  <a:pt x="113015" y="1400"/>
                </a:lnTo>
                <a:close/>
              </a:path>
              <a:path fill="darkenLess" w="114415" h="21600">
                <a:moveTo>
                  <a:pt x="1144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3015" y="20200"/>
                </a:lnTo>
                <a:close/>
              </a:path>
              <a:path fill="lighten" w="1144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99"/>
          </a:solidFill>
          <a:ln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ack to Jeopard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2917800" y="3076560"/>
          <a:ext cx="3675240" cy="2603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917800" y="3076560"/>
                    <a:ext cx="3675240" cy="260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066680" y="762120"/>
            <a:ext cx="7162920" cy="38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empus Sans ITC"/>
              </a:rPr>
              <a:t>1000</a:t>
            </a:r>
            <a:r>
              <a:rPr b="0" lang="en-US" sz="2400" spc="-1" strike="noStrike">
                <a:solidFill>
                  <a:srgbClr val="000099"/>
                </a:solidFill>
                <a:latin typeface="Tempus Sans ITC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Tempus Sans ITC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Tempus Sans ITC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Tempus Sans ITC"/>
              </a:rPr>
              <a:t>                    </a:t>
            </a:r>
            <a:r>
              <a:rPr b="1" lang="en-US" sz="2400" spc="-1" strike="noStrike">
                <a:solidFill>
                  <a:srgbClr val="000099"/>
                </a:solidFill>
                <a:latin typeface="Tempus Sans ITC"/>
                <a:ea typeface="Times New Roman"/>
              </a:rPr>
              <a:t>Equivalent Frac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99"/>
                </a:solidFill>
                <a:latin typeface="Times New Roman"/>
              </a:rPr>
              <a:t>Which of the following fractions do NOT belong?</a:t>
            </a:r>
            <a:endParaRPr b="0" lang="en-US" sz="5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empus Sans ITC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>
            <a:hlinkClick r:id="" action="ppaction://hlinkshowjump?jump=firstslide"/>
          </p:cNvPr>
          <p:cNvSpPr/>
          <p:nvPr/>
        </p:nvSpPr>
        <p:spPr>
          <a:xfrm>
            <a:off x="2743200" y="5867280"/>
            <a:ext cx="4038480" cy="762120"/>
          </a:xfrm>
          <a:custGeom>
            <a:avLst/>
            <a:gdLst>
              <a:gd name="textAreaLeft" fmla="*/ 49320 w 4038480"/>
              <a:gd name="textAreaRight" fmla="*/ 3989160 w 40384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114415" h="21600">
                <a:moveTo>
                  <a:pt x="0" y="0"/>
                </a:moveTo>
                <a:lnTo>
                  <a:pt x="114415" y="0"/>
                </a:lnTo>
                <a:lnTo>
                  <a:pt x="114415" y="21600"/>
                </a:lnTo>
                <a:lnTo>
                  <a:pt x="0" y="21600"/>
                </a:lnTo>
                <a:close/>
              </a:path>
              <a:path fill="lightenLess" w="114415" h="21600">
                <a:moveTo>
                  <a:pt x="0" y="0"/>
                </a:moveTo>
                <a:lnTo>
                  <a:pt x="114415" y="0"/>
                </a:lnTo>
                <a:lnTo>
                  <a:pt x="113015" y="1400"/>
                </a:lnTo>
                <a:lnTo>
                  <a:pt x="1400" y="1400"/>
                </a:lnTo>
                <a:close/>
              </a:path>
              <a:path fill="darken" w="114415" h="21600">
                <a:moveTo>
                  <a:pt x="114415" y="0"/>
                </a:moveTo>
                <a:lnTo>
                  <a:pt x="114415" y="21600"/>
                </a:lnTo>
                <a:lnTo>
                  <a:pt x="113015" y="20200"/>
                </a:lnTo>
                <a:lnTo>
                  <a:pt x="113015" y="1400"/>
                </a:lnTo>
                <a:close/>
              </a:path>
              <a:path fill="darkenLess" w="114415" h="21600">
                <a:moveTo>
                  <a:pt x="1144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3015" y="20200"/>
                </a:lnTo>
                <a:close/>
              </a:path>
              <a:path fill="lighten" w="1144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99"/>
          </a:solidFill>
          <a:ln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ack to Jeopard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1987560" y="3427560"/>
          <a:ext cx="5353200" cy="2439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87560" y="3427560"/>
                    <a:ext cx="5353200" cy="243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066680" y="762120"/>
            <a:ext cx="7162920" cy="27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empus Sans ITC"/>
              </a:rPr>
              <a:t>200</a:t>
            </a:r>
            <a:r>
              <a:rPr b="1" lang="en-US" sz="2400" spc="-1" strike="noStrike">
                <a:solidFill>
                  <a:srgbClr val="000099"/>
                </a:solidFill>
                <a:latin typeface="Tempus Sans ITC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Tempus Sans ITC"/>
              </a:rPr>
              <a:t>           </a:t>
            </a:r>
            <a:r>
              <a:rPr b="1" lang="en-US" sz="2400" spc="-1" strike="noStrike">
                <a:solidFill>
                  <a:srgbClr val="000099"/>
                </a:solidFill>
                <a:latin typeface="Tempus Sans ITC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Tempus Sans ITC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Tempus Sans ITC"/>
              </a:rPr>
              <a:t>     Proper vs. Improper Frac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99"/>
                </a:solidFill>
                <a:latin typeface="Times New Roman"/>
              </a:rPr>
              <a:t>Which of the following is an improper fraction?</a:t>
            </a:r>
            <a:endParaRPr b="0" lang="en-US" sz="5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>
            <a:hlinkClick r:id="" action="ppaction://hlinkshowjump?jump=firstslide"/>
          </p:cNvPr>
          <p:cNvSpPr/>
          <p:nvPr/>
        </p:nvSpPr>
        <p:spPr>
          <a:xfrm>
            <a:off x="2743200" y="5867280"/>
            <a:ext cx="4038480" cy="762120"/>
          </a:xfrm>
          <a:custGeom>
            <a:avLst/>
            <a:gdLst>
              <a:gd name="textAreaLeft" fmla="*/ 49320 w 4038480"/>
              <a:gd name="textAreaRight" fmla="*/ 3989160 w 40384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114415" h="21600">
                <a:moveTo>
                  <a:pt x="0" y="0"/>
                </a:moveTo>
                <a:lnTo>
                  <a:pt x="114415" y="0"/>
                </a:lnTo>
                <a:lnTo>
                  <a:pt x="114415" y="21600"/>
                </a:lnTo>
                <a:lnTo>
                  <a:pt x="0" y="21600"/>
                </a:lnTo>
                <a:close/>
              </a:path>
              <a:path fill="lightenLess" w="114415" h="21600">
                <a:moveTo>
                  <a:pt x="0" y="0"/>
                </a:moveTo>
                <a:lnTo>
                  <a:pt x="114415" y="0"/>
                </a:lnTo>
                <a:lnTo>
                  <a:pt x="113015" y="1400"/>
                </a:lnTo>
                <a:lnTo>
                  <a:pt x="1400" y="1400"/>
                </a:lnTo>
                <a:close/>
              </a:path>
              <a:path fill="darken" w="114415" h="21600">
                <a:moveTo>
                  <a:pt x="114415" y="0"/>
                </a:moveTo>
                <a:lnTo>
                  <a:pt x="114415" y="21600"/>
                </a:lnTo>
                <a:lnTo>
                  <a:pt x="113015" y="20200"/>
                </a:lnTo>
                <a:lnTo>
                  <a:pt x="113015" y="1400"/>
                </a:lnTo>
                <a:close/>
              </a:path>
              <a:path fill="darkenLess" w="114415" h="21600">
                <a:moveTo>
                  <a:pt x="1144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3015" y="20200"/>
                </a:lnTo>
                <a:close/>
              </a:path>
              <a:path fill="lighten" w="1144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99"/>
          </a:solidFill>
          <a:ln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ack to Jeopard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2941560" y="2940120"/>
          <a:ext cx="3570480" cy="2927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941560" y="2940120"/>
                    <a:ext cx="3570480" cy="292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066680" y="762120"/>
            <a:ext cx="7162920" cy="39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empus Sans ITC"/>
              </a:rPr>
              <a:t>400</a:t>
            </a:r>
            <a:r>
              <a:rPr b="1" lang="en-US" sz="2400" spc="-1" strike="noStrike">
                <a:solidFill>
                  <a:srgbClr val="000099"/>
                </a:solidFill>
                <a:latin typeface="Tempus Sans ITC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Tempus Sans ITC"/>
              </a:rPr>
              <a:t>           </a:t>
            </a:r>
            <a:r>
              <a:rPr b="1" lang="en-US" sz="2400" spc="-1" strike="noStrike">
                <a:solidFill>
                  <a:srgbClr val="000099"/>
                </a:solidFill>
                <a:latin typeface="Tempus Sans ITC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Tempus Sans ITC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Tempus Sans ITC"/>
              </a:rPr>
              <a:t>     Proper vs. Improper Frac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99"/>
                </a:solidFill>
                <a:latin typeface="Times New Roman"/>
              </a:rPr>
              <a:t>Which of the following is a proper fraction?</a:t>
            </a:r>
            <a:endParaRPr b="0" lang="en-US" sz="5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>
            <a:hlinkClick r:id="" action="ppaction://hlinkshowjump?jump=firstslide"/>
          </p:cNvPr>
          <p:cNvSpPr/>
          <p:nvPr/>
        </p:nvSpPr>
        <p:spPr>
          <a:xfrm>
            <a:off x="2743200" y="5867280"/>
            <a:ext cx="4038480" cy="762120"/>
          </a:xfrm>
          <a:custGeom>
            <a:avLst/>
            <a:gdLst>
              <a:gd name="textAreaLeft" fmla="*/ 49320 w 4038480"/>
              <a:gd name="textAreaRight" fmla="*/ 3989160 w 40384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114415" h="21600">
                <a:moveTo>
                  <a:pt x="0" y="0"/>
                </a:moveTo>
                <a:lnTo>
                  <a:pt x="114415" y="0"/>
                </a:lnTo>
                <a:lnTo>
                  <a:pt x="114415" y="21600"/>
                </a:lnTo>
                <a:lnTo>
                  <a:pt x="0" y="21600"/>
                </a:lnTo>
                <a:close/>
              </a:path>
              <a:path fill="lightenLess" w="114415" h="21600">
                <a:moveTo>
                  <a:pt x="0" y="0"/>
                </a:moveTo>
                <a:lnTo>
                  <a:pt x="114415" y="0"/>
                </a:lnTo>
                <a:lnTo>
                  <a:pt x="113015" y="1400"/>
                </a:lnTo>
                <a:lnTo>
                  <a:pt x="1400" y="1400"/>
                </a:lnTo>
                <a:close/>
              </a:path>
              <a:path fill="darken" w="114415" h="21600">
                <a:moveTo>
                  <a:pt x="114415" y="0"/>
                </a:moveTo>
                <a:lnTo>
                  <a:pt x="114415" y="21600"/>
                </a:lnTo>
                <a:lnTo>
                  <a:pt x="113015" y="20200"/>
                </a:lnTo>
                <a:lnTo>
                  <a:pt x="113015" y="1400"/>
                </a:lnTo>
                <a:close/>
              </a:path>
              <a:path fill="darkenLess" w="114415" h="21600">
                <a:moveTo>
                  <a:pt x="1144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3015" y="20200"/>
                </a:lnTo>
                <a:close/>
              </a:path>
              <a:path fill="lighten" w="1144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99"/>
          </a:solidFill>
          <a:ln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ack to Jeopard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941560" y="2940120"/>
          <a:ext cx="3570480" cy="2927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941560" y="2940120"/>
                    <a:ext cx="3570480" cy="292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>
            <a:hlinkClick r:id="" action="ppaction://hlinkshowjump?jump=firstslide"/>
          </p:cNvPr>
          <p:cNvSpPr/>
          <p:nvPr/>
        </p:nvSpPr>
        <p:spPr>
          <a:xfrm>
            <a:off x="2590920" y="5715000"/>
            <a:ext cx="4038480" cy="762120"/>
          </a:xfrm>
          <a:custGeom>
            <a:avLst/>
            <a:gdLst>
              <a:gd name="textAreaLeft" fmla="*/ 49320 w 4038480"/>
              <a:gd name="textAreaRight" fmla="*/ 3989160 w 40384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114415" h="21600">
                <a:moveTo>
                  <a:pt x="0" y="0"/>
                </a:moveTo>
                <a:lnTo>
                  <a:pt x="114415" y="0"/>
                </a:lnTo>
                <a:lnTo>
                  <a:pt x="114415" y="21600"/>
                </a:lnTo>
                <a:lnTo>
                  <a:pt x="0" y="21600"/>
                </a:lnTo>
                <a:close/>
              </a:path>
              <a:path fill="lightenLess" w="114415" h="21600">
                <a:moveTo>
                  <a:pt x="0" y="0"/>
                </a:moveTo>
                <a:lnTo>
                  <a:pt x="114415" y="0"/>
                </a:lnTo>
                <a:lnTo>
                  <a:pt x="113015" y="1400"/>
                </a:lnTo>
                <a:lnTo>
                  <a:pt x="1400" y="1400"/>
                </a:lnTo>
                <a:close/>
              </a:path>
              <a:path fill="darken" w="114415" h="21600">
                <a:moveTo>
                  <a:pt x="114415" y="0"/>
                </a:moveTo>
                <a:lnTo>
                  <a:pt x="114415" y="21600"/>
                </a:lnTo>
                <a:lnTo>
                  <a:pt x="113015" y="20200"/>
                </a:lnTo>
                <a:lnTo>
                  <a:pt x="113015" y="1400"/>
                </a:lnTo>
                <a:close/>
              </a:path>
              <a:path fill="darkenLess" w="114415" h="21600">
                <a:moveTo>
                  <a:pt x="1144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3015" y="20200"/>
                </a:lnTo>
                <a:close/>
              </a:path>
              <a:path fill="lighten" w="1144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99"/>
          </a:solidFill>
          <a:ln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ack to Jeopard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066680" y="762120"/>
            <a:ext cx="7162920" cy="83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empus Sans ITC"/>
              </a:rPr>
              <a:t>200</a:t>
            </a:r>
            <a:r>
              <a:rPr b="0" lang="en-US" sz="2400" spc="-1" strike="noStrike">
                <a:solidFill>
                  <a:srgbClr val="000099"/>
                </a:solidFill>
                <a:latin typeface="Tempus Sans ITC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Tempus Sans ITC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Tempus Sans ITC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Tempus Sans ITC"/>
              </a:rPr>
              <a:t>Adding and Subtracting Integ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99"/>
                </a:solidFill>
                <a:latin typeface="Times New Roman"/>
              </a:rPr>
              <a:t>-4+13</a:t>
            </a:r>
            <a:endParaRPr b="0" lang="en-US" sz="15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2743200" y="5867280"/>
            <a:ext cx="4038480" cy="762120"/>
          </a:xfrm>
          <a:custGeom>
            <a:avLst/>
            <a:gdLst>
              <a:gd name="textAreaLeft" fmla="*/ 49320 w 4038480"/>
              <a:gd name="textAreaRight" fmla="*/ 3989160 w 40384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114415" h="21600">
                <a:moveTo>
                  <a:pt x="0" y="0"/>
                </a:moveTo>
                <a:lnTo>
                  <a:pt x="114415" y="0"/>
                </a:lnTo>
                <a:lnTo>
                  <a:pt x="114415" y="21600"/>
                </a:lnTo>
                <a:lnTo>
                  <a:pt x="0" y="21600"/>
                </a:lnTo>
                <a:close/>
              </a:path>
              <a:path fill="lightenLess" w="114415" h="21600">
                <a:moveTo>
                  <a:pt x="0" y="0"/>
                </a:moveTo>
                <a:lnTo>
                  <a:pt x="114415" y="0"/>
                </a:lnTo>
                <a:lnTo>
                  <a:pt x="113015" y="1400"/>
                </a:lnTo>
                <a:lnTo>
                  <a:pt x="1400" y="1400"/>
                </a:lnTo>
                <a:close/>
              </a:path>
              <a:path fill="darken" w="114415" h="21600">
                <a:moveTo>
                  <a:pt x="114415" y="0"/>
                </a:moveTo>
                <a:lnTo>
                  <a:pt x="114415" y="21600"/>
                </a:lnTo>
                <a:lnTo>
                  <a:pt x="113015" y="20200"/>
                </a:lnTo>
                <a:lnTo>
                  <a:pt x="113015" y="1400"/>
                </a:lnTo>
                <a:close/>
              </a:path>
              <a:path fill="darkenLess" w="114415" h="21600">
                <a:moveTo>
                  <a:pt x="1144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3015" y="20200"/>
                </a:lnTo>
                <a:close/>
              </a:path>
              <a:path fill="lighten" w="1144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99"/>
          </a:solidFill>
          <a:ln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ack to Jeopard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066680" y="762120"/>
            <a:ext cx="7162920" cy="39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empus Sans ITC"/>
              </a:rPr>
              <a:t>600</a:t>
            </a:r>
            <a:r>
              <a:rPr b="1" lang="en-US" sz="2400" spc="-1" strike="noStrike">
                <a:solidFill>
                  <a:srgbClr val="000099"/>
                </a:solidFill>
                <a:latin typeface="Tempus Sans ITC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Tempus Sans ITC"/>
              </a:rPr>
              <a:t>           </a:t>
            </a:r>
            <a:r>
              <a:rPr b="1" lang="en-US" sz="2400" spc="-1" strike="noStrike">
                <a:solidFill>
                  <a:srgbClr val="000099"/>
                </a:solidFill>
                <a:latin typeface="Tempus Sans ITC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Tempus Sans ITC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Tempus Sans ITC"/>
              </a:rPr>
              <a:t>     Proper vs. Improper Frac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99"/>
                </a:solidFill>
                <a:latin typeface="Times New Roman"/>
              </a:rPr>
              <a:t>Write the following as a mixed number:</a:t>
            </a:r>
            <a:endParaRPr b="0" lang="en-US" sz="5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4067280" y="2922480"/>
          <a:ext cx="1290600" cy="2716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067280" y="2922480"/>
                    <a:ext cx="1290600" cy="271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>
            <a:hlinkClick r:id="" action="ppaction://hlinkshowjump?jump=firstslide"/>
          </p:cNvPr>
          <p:cNvSpPr/>
          <p:nvPr/>
        </p:nvSpPr>
        <p:spPr>
          <a:xfrm>
            <a:off x="2743200" y="5867280"/>
            <a:ext cx="4038480" cy="762120"/>
          </a:xfrm>
          <a:custGeom>
            <a:avLst/>
            <a:gdLst>
              <a:gd name="textAreaLeft" fmla="*/ 49320 w 4038480"/>
              <a:gd name="textAreaRight" fmla="*/ 3989160 w 40384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114415" h="21600">
                <a:moveTo>
                  <a:pt x="0" y="0"/>
                </a:moveTo>
                <a:lnTo>
                  <a:pt x="114415" y="0"/>
                </a:lnTo>
                <a:lnTo>
                  <a:pt x="114415" y="21600"/>
                </a:lnTo>
                <a:lnTo>
                  <a:pt x="0" y="21600"/>
                </a:lnTo>
                <a:close/>
              </a:path>
              <a:path fill="lightenLess" w="114415" h="21600">
                <a:moveTo>
                  <a:pt x="0" y="0"/>
                </a:moveTo>
                <a:lnTo>
                  <a:pt x="114415" y="0"/>
                </a:lnTo>
                <a:lnTo>
                  <a:pt x="113015" y="1400"/>
                </a:lnTo>
                <a:lnTo>
                  <a:pt x="1400" y="1400"/>
                </a:lnTo>
                <a:close/>
              </a:path>
              <a:path fill="darken" w="114415" h="21600">
                <a:moveTo>
                  <a:pt x="114415" y="0"/>
                </a:moveTo>
                <a:lnTo>
                  <a:pt x="114415" y="21600"/>
                </a:lnTo>
                <a:lnTo>
                  <a:pt x="113015" y="20200"/>
                </a:lnTo>
                <a:lnTo>
                  <a:pt x="113015" y="1400"/>
                </a:lnTo>
                <a:close/>
              </a:path>
              <a:path fill="darkenLess" w="114415" h="21600">
                <a:moveTo>
                  <a:pt x="1144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3015" y="20200"/>
                </a:lnTo>
                <a:close/>
              </a:path>
              <a:path fill="lighten" w="1144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99"/>
          </a:solidFill>
          <a:ln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ack to Jeopard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762120"/>
            <a:ext cx="7162920" cy="39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empus Sans ITC"/>
              </a:rPr>
              <a:t>800</a:t>
            </a:r>
            <a:r>
              <a:rPr b="1" lang="en-US" sz="2400" spc="-1" strike="noStrike">
                <a:solidFill>
                  <a:srgbClr val="000099"/>
                </a:solidFill>
                <a:latin typeface="Tempus Sans ITC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Tempus Sans ITC"/>
              </a:rPr>
              <a:t>           </a:t>
            </a:r>
            <a:r>
              <a:rPr b="1" lang="en-US" sz="2400" spc="-1" strike="noStrike">
                <a:solidFill>
                  <a:srgbClr val="000099"/>
                </a:solidFill>
                <a:latin typeface="Tempus Sans ITC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Tempus Sans ITC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Tempus Sans ITC"/>
              </a:rPr>
              <a:t>     Proper vs. Improper Frac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99"/>
                </a:solidFill>
                <a:latin typeface="Times New Roman"/>
              </a:rPr>
              <a:t>Write the following as an improper fraction.</a:t>
            </a:r>
            <a:endParaRPr b="0" lang="en-US" sz="5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3521160" y="3124080"/>
          <a:ext cx="1527120" cy="2743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521160" y="3124080"/>
                    <a:ext cx="1527120" cy="27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>
            <a:hlinkClick r:id="" action="ppaction://hlinkshowjump?jump=firstslide"/>
          </p:cNvPr>
          <p:cNvSpPr/>
          <p:nvPr/>
        </p:nvSpPr>
        <p:spPr>
          <a:xfrm>
            <a:off x="2743200" y="5867280"/>
            <a:ext cx="4038480" cy="762120"/>
          </a:xfrm>
          <a:custGeom>
            <a:avLst/>
            <a:gdLst>
              <a:gd name="textAreaLeft" fmla="*/ 49320 w 4038480"/>
              <a:gd name="textAreaRight" fmla="*/ 3989160 w 40384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114415" h="21600">
                <a:moveTo>
                  <a:pt x="0" y="0"/>
                </a:moveTo>
                <a:lnTo>
                  <a:pt x="114415" y="0"/>
                </a:lnTo>
                <a:lnTo>
                  <a:pt x="114415" y="21600"/>
                </a:lnTo>
                <a:lnTo>
                  <a:pt x="0" y="21600"/>
                </a:lnTo>
                <a:close/>
              </a:path>
              <a:path fill="lightenLess" w="114415" h="21600">
                <a:moveTo>
                  <a:pt x="0" y="0"/>
                </a:moveTo>
                <a:lnTo>
                  <a:pt x="114415" y="0"/>
                </a:lnTo>
                <a:lnTo>
                  <a:pt x="113015" y="1400"/>
                </a:lnTo>
                <a:lnTo>
                  <a:pt x="1400" y="1400"/>
                </a:lnTo>
                <a:close/>
              </a:path>
              <a:path fill="darken" w="114415" h="21600">
                <a:moveTo>
                  <a:pt x="114415" y="0"/>
                </a:moveTo>
                <a:lnTo>
                  <a:pt x="114415" y="21600"/>
                </a:lnTo>
                <a:lnTo>
                  <a:pt x="113015" y="20200"/>
                </a:lnTo>
                <a:lnTo>
                  <a:pt x="113015" y="1400"/>
                </a:lnTo>
                <a:close/>
              </a:path>
              <a:path fill="darkenLess" w="114415" h="21600">
                <a:moveTo>
                  <a:pt x="1144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3015" y="20200"/>
                </a:lnTo>
                <a:close/>
              </a:path>
              <a:path fill="lighten" w="1144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99"/>
          </a:solidFill>
          <a:ln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ack to Jeopard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066680" y="762120"/>
            <a:ext cx="7162920" cy="42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empus Sans ITC"/>
              </a:rPr>
              <a:t>1000</a:t>
            </a:r>
            <a:r>
              <a:rPr b="0" lang="en-US" sz="2400" spc="-1" strike="noStrike">
                <a:solidFill>
                  <a:srgbClr val="000099"/>
                </a:solidFill>
                <a:latin typeface="Tempus Sans ITC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Tempus Sans ITC"/>
              </a:rPr>
              <a:t>           </a:t>
            </a:r>
            <a:r>
              <a:rPr b="0" lang="en-US" sz="2400" spc="-1" strike="noStrike">
                <a:solidFill>
                  <a:srgbClr val="000099"/>
                </a:solidFill>
                <a:latin typeface="Tempus Sans ITC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Tempus Sans ITC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Tempus Sans ITC"/>
              </a:rPr>
              <a:t>     Proper vs. Improper Frac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99"/>
                </a:solidFill>
                <a:latin typeface="Times New Roman"/>
              </a:rPr>
              <a:t>Put the following improper fractions in order from least to greatest.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2940120" y="2670120"/>
          <a:ext cx="3666960" cy="2954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940120" y="2670120"/>
                    <a:ext cx="3666960" cy="295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>
            <a:hlinkClick r:id="" action="ppaction://hlinkshowjump?jump=firstslide"/>
          </p:cNvPr>
          <p:cNvSpPr/>
          <p:nvPr/>
        </p:nvSpPr>
        <p:spPr>
          <a:xfrm>
            <a:off x="2743200" y="5867280"/>
            <a:ext cx="4038480" cy="762120"/>
          </a:xfrm>
          <a:custGeom>
            <a:avLst/>
            <a:gdLst>
              <a:gd name="textAreaLeft" fmla="*/ 49320 w 4038480"/>
              <a:gd name="textAreaRight" fmla="*/ 3989160 w 40384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114415" h="21600">
                <a:moveTo>
                  <a:pt x="0" y="0"/>
                </a:moveTo>
                <a:lnTo>
                  <a:pt x="114415" y="0"/>
                </a:lnTo>
                <a:lnTo>
                  <a:pt x="114415" y="21600"/>
                </a:lnTo>
                <a:lnTo>
                  <a:pt x="0" y="21600"/>
                </a:lnTo>
                <a:close/>
              </a:path>
              <a:path fill="lightenLess" w="114415" h="21600">
                <a:moveTo>
                  <a:pt x="0" y="0"/>
                </a:moveTo>
                <a:lnTo>
                  <a:pt x="114415" y="0"/>
                </a:lnTo>
                <a:lnTo>
                  <a:pt x="113015" y="1400"/>
                </a:lnTo>
                <a:lnTo>
                  <a:pt x="1400" y="1400"/>
                </a:lnTo>
                <a:close/>
              </a:path>
              <a:path fill="darken" w="114415" h="21600">
                <a:moveTo>
                  <a:pt x="114415" y="0"/>
                </a:moveTo>
                <a:lnTo>
                  <a:pt x="114415" y="21600"/>
                </a:lnTo>
                <a:lnTo>
                  <a:pt x="113015" y="20200"/>
                </a:lnTo>
                <a:lnTo>
                  <a:pt x="113015" y="1400"/>
                </a:lnTo>
                <a:close/>
              </a:path>
              <a:path fill="darkenLess" w="114415" h="21600">
                <a:moveTo>
                  <a:pt x="1144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3015" y="20200"/>
                </a:lnTo>
                <a:close/>
              </a:path>
              <a:path fill="lighten" w="1144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99"/>
          </a:solidFill>
          <a:ln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ack to Jeopard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66680" y="762120"/>
            <a:ext cx="71629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empus Sans ITC"/>
              </a:rPr>
              <a:t>200</a:t>
            </a:r>
            <a:r>
              <a:rPr b="0" lang="en-US" sz="2400" spc="-1" strike="noStrike">
                <a:solidFill>
                  <a:srgbClr val="000099"/>
                </a:solidFill>
                <a:latin typeface="Tempus Sans ITC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Tempus Sans ITC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Tempus Sans ITC"/>
              </a:rPr>
              <a:t>           Adding and Subtracting Fractions           </a:t>
            </a:r>
            <a:r>
              <a:rPr b="0" lang="en-US" sz="2400" spc="-1" strike="noStrike">
                <a:solidFill>
                  <a:srgbClr val="000099"/>
                </a:solidFill>
                <a:latin typeface="Tempus Sans ITC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Tempus Sans ITC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2990880" y="1600200"/>
          <a:ext cx="3479760" cy="3581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990880" y="1600200"/>
                    <a:ext cx="3479760" cy="358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>
            <a:hlinkClick r:id="" action="ppaction://hlinkshowjump?jump=firstslide"/>
          </p:cNvPr>
          <p:cNvSpPr/>
          <p:nvPr/>
        </p:nvSpPr>
        <p:spPr>
          <a:xfrm>
            <a:off x="2743200" y="5867280"/>
            <a:ext cx="4038480" cy="762120"/>
          </a:xfrm>
          <a:custGeom>
            <a:avLst/>
            <a:gdLst>
              <a:gd name="textAreaLeft" fmla="*/ 49320 w 4038480"/>
              <a:gd name="textAreaRight" fmla="*/ 3989160 w 40384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114415" h="21600">
                <a:moveTo>
                  <a:pt x="0" y="0"/>
                </a:moveTo>
                <a:lnTo>
                  <a:pt x="114415" y="0"/>
                </a:lnTo>
                <a:lnTo>
                  <a:pt x="114415" y="21600"/>
                </a:lnTo>
                <a:lnTo>
                  <a:pt x="0" y="21600"/>
                </a:lnTo>
                <a:close/>
              </a:path>
              <a:path fill="lightenLess" w="114415" h="21600">
                <a:moveTo>
                  <a:pt x="0" y="0"/>
                </a:moveTo>
                <a:lnTo>
                  <a:pt x="114415" y="0"/>
                </a:lnTo>
                <a:lnTo>
                  <a:pt x="113015" y="1400"/>
                </a:lnTo>
                <a:lnTo>
                  <a:pt x="1400" y="1400"/>
                </a:lnTo>
                <a:close/>
              </a:path>
              <a:path fill="darken" w="114415" h="21600">
                <a:moveTo>
                  <a:pt x="114415" y="0"/>
                </a:moveTo>
                <a:lnTo>
                  <a:pt x="114415" y="21600"/>
                </a:lnTo>
                <a:lnTo>
                  <a:pt x="113015" y="20200"/>
                </a:lnTo>
                <a:lnTo>
                  <a:pt x="113015" y="1400"/>
                </a:lnTo>
                <a:close/>
              </a:path>
              <a:path fill="darkenLess" w="114415" h="21600">
                <a:moveTo>
                  <a:pt x="1144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3015" y="20200"/>
                </a:lnTo>
                <a:close/>
              </a:path>
              <a:path fill="lighten" w="1144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99"/>
          </a:solidFill>
          <a:ln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ack to Jeopard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762120"/>
            <a:ext cx="71629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empus Sans ITC"/>
              </a:rPr>
              <a:t>400</a:t>
            </a:r>
            <a:r>
              <a:rPr b="0" lang="en-US" sz="2400" spc="-1" strike="noStrike">
                <a:solidFill>
                  <a:srgbClr val="000099"/>
                </a:solidFill>
                <a:latin typeface="Tempus Sans ITC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Tempus Sans ITC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Tempus Sans ITC"/>
              </a:rPr>
              <a:t>           Adding and Subtracting Frac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016080" y="1600200"/>
          <a:ext cx="3429000" cy="3581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16080" y="1600200"/>
                    <a:ext cx="3429000" cy="358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2743200" y="5867280"/>
            <a:ext cx="4038480" cy="762120"/>
          </a:xfrm>
          <a:custGeom>
            <a:avLst/>
            <a:gdLst>
              <a:gd name="textAreaLeft" fmla="*/ 49320 w 4038480"/>
              <a:gd name="textAreaRight" fmla="*/ 3989160 w 40384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114415" h="21600">
                <a:moveTo>
                  <a:pt x="0" y="0"/>
                </a:moveTo>
                <a:lnTo>
                  <a:pt x="114415" y="0"/>
                </a:lnTo>
                <a:lnTo>
                  <a:pt x="114415" y="21600"/>
                </a:lnTo>
                <a:lnTo>
                  <a:pt x="0" y="21600"/>
                </a:lnTo>
                <a:close/>
              </a:path>
              <a:path fill="lightenLess" w="114415" h="21600">
                <a:moveTo>
                  <a:pt x="0" y="0"/>
                </a:moveTo>
                <a:lnTo>
                  <a:pt x="114415" y="0"/>
                </a:lnTo>
                <a:lnTo>
                  <a:pt x="113015" y="1400"/>
                </a:lnTo>
                <a:lnTo>
                  <a:pt x="1400" y="1400"/>
                </a:lnTo>
                <a:close/>
              </a:path>
              <a:path fill="darken" w="114415" h="21600">
                <a:moveTo>
                  <a:pt x="114415" y="0"/>
                </a:moveTo>
                <a:lnTo>
                  <a:pt x="114415" y="21600"/>
                </a:lnTo>
                <a:lnTo>
                  <a:pt x="113015" y="20200"/>
                </a:lnTo>
                <a:lnTo>
                  <a:pt x="113015" y="1400"/>
                </a:lnTo>
                <a:close/>
              </a:path>
              <a:path fill="darkenLess" w="114415" h="21600">
                <a:moveTo>
                  <a:pt x="1144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3015" y="20200"/>
                </a:lnTo>
                <a:close/>
              </a:path>
              <a:path fill="lighten" w="1144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99"/>
          </a:solidFill>
          <a:ln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ack to Jeopard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762120"/>
            <a:ext cx="71629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empus Sans ITC"/>
              </a:rPr>
              <a:t>600</a:t>
            </a:r>
            <a:r>
              <a:rPr b="0" lang="en-US" sz="2400" spc="-1" strike="noStrike">
                <a:solidFill>
                  <a:srgbClr val="000099"/>
                </a:solidFill>
                <a:latin typeface="Tempus Sans ITC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Tempus Sans ITC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Tempus Sans ITC"/>
              </a:rPr>
              <a:t>           Adding and Subtracting Frac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122560" y="1766880"/>
          <a:ext cx="5219640" cy="3581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22560" y="1766880"/>
                    <a:ext cx="5219640" cy="358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2743200" y="5867280"/>
            <a:ext cx="4038480" cy="762120"/>
          </a:xfrm>
          <a:custGeom>
            <a:avLst/>
            <a:gdLst>
              <a:gd name="textAreaLeft" fmla="*/ 49320 w 4038480"/>
              <a:gd name="textAreaRight" fmla="*/ 3989160 w 40384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114415" h="21600">
                <a:moveTo>
                  <a:pt x="0" y="0"/>
                </a:moveTo>
                <a:lnTo>
                  <a:pt x="114415" y="0"/>
                </a:lnTo>
                <a:lnTo>
                  <a:pt x="114415" y="21600"/>
                </a:lnTo>
                <a:lnTo>
                  <a:pt x="0" y="21600"/>
                </a:lnTo>
                <a:close/>
              </a:path>
              <a:path fill="lightenLess" w="114415" h="21600">
                <a:moveTo>
                  <a:pt x="0" y="0"/>
                </a:moveTo>
                <a:lnTo>
                  <a:pt x="114415" y="0"/>
                </a:lnTo>
                <a:lnTo>
                  <a:pt x="113015" y="1400"/>
                </a:lnTo>
                <a:lnTo>
                  <a:pt x="1400" y="1400"/>
                </a:lnTo>
                <a:close/>
              </a:path>
              <a:path fill="darken" w="114415" h="21600">
                <a:moveTo>
                  <a:pt x="114415" y="0"/>
                </a:moveTo>
                <a:lnTo>
                  <a:pt x="114415" y="21600"/>
                </a:lnTo>
                <a:lnTo>
                  <a:pt x="113015" y="20200"/>
                </a:lnTo>
                <a:lnTo>
                  <a:pt x="113015" y="1400"/>
                </a:lnTo>
                <a:close/>
              </a:path>
              <a:path fill="darkenLess" w="114415" h="21600">
                <a:moveTo>
                  <a:pt x="1144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3015" y="20200"/>
                </a:lnTo>
                <a:close/>
              </a:path>
              <a:path fill="lighten" w="1144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99"/>
          </a:solidFill>
          <a:ln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ack to Jeopard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066680" y="762120"/>
            <a:ext cx="71629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empus Sans ITC"/>
              </a:rPr>
              <a:t>800</a:t>
            </a:r>
            <a:r>
              <a:rPr b="0" lang="en-US" sz="2400" spc="-1" strike="noStrike">
                <a:solidFill>
                  <a:srgbClr val="000099"/>
                </a:solidFill>
                <a:latin typeface="Tempus Sans ITC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Tempus Sans ITC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Tempus Sans ITC"/>
              </a:rPr>
              <a:t>           Adding and Subtracting Frac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2013120" y="1774800"/>
          <a:ext cx="5359320" cy="3581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013120" y="1774800"/>
                    <a:ext cx="5359320" cy="358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2743200" y="5867280"/>
            <a:ext cx="4038480" cy="762120"/>
          </a:xfrm>
          <a:custGeom>
            <a:avLst/>
            <a:gdLst>
              <a:gd name="textAreaLeft" fmla="*/ 49320 w 4038480"/>
              <a:gd name="textAreaRight" fmla="*/ 3989160 w 40384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114415" h="21600">
                <a:moveTo>
                  <a:pt x="0" y="0"/>
                </a:moveTo>
                <a:lnTo>
                  <a:pt x="114415" y="0"/>
                </a:lnTo>
                <a:lnTo>
                  <a:pt x="114415" y="21600"/>
                </a:lnTo>
                <a:lnTo>
                  <a:pt x="0" y="21600"/>
                </a:lnTo>
                <a:close/>
              </a:path>
              <a:path fill="lightenLess" w="114415" h="21600">
                <a:moveTo>
                  <a:pt x="0" y="0"/>
                </a:moveTo>
                <a:lnTo>
                  <a:pt x="114415" y="0"/>
                </a:lnTo>
                <a:lnTo>
                  <a:pt x="113015" y="1400"/>
                </a:lnTo>
                <a:lnTo>
                  <a:pt x="1400" y="1400"/>
                </a:lnTo>
                <a:close/>
              </a:path>
              <a:path fill="darken" w="114415" h="21600">
                <a:moveTo>
                  <a:pt x="114415" y="0"/>
                </a:moveTo>
                <a:lnTo>
                  <a:pt x="114415" y="21600"/>
                </a:lnTo>
                <a:lnTo>
                  <a:pt x="113015" y="20200"/>
                </a:lnTo>
                <a:lnTo>
                  <a:pt x="113015" y="1400"/>
                </a:lnTo>
                <a:close/>
              </a:path>
              <a:path fill="darkenLess" w="114415" h="21600">
                <a:moveTo>
                  <a:pt x="1144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3015" y="20200"/>
                </a:lnTo>
                <a:close/>
              </a:path>
              <a:path fill="lighten" w="1144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99"/>
          </a:solidFill>
          <a:ln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ack to Jeopard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066680" y="762120"/>
            <a:ext cx="71629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empus Sans ITC"/>
              </a:rPr>
              <a:t>1000</a:t>
            </a:r>
            <a:r>
              <a:rPr b="0" lang="en-US" sz="2400" spc="-1" strike="noStrike">
                <a:solidFill>
                  <a:srgbClr val="000099"/>
                </a:solidFill>
                <a:latin typeface="Tempus Sans ITC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Tempus Sans ITC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Tempus Sans ITC"/>
              </a:rPr>
              <a:t>           Adding and Subtracting Frac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2130480" y="1666800"/>
          <a:ext cx="5232240" cy="3581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30480" y="1666800"/>
                    <a:ext cx="5232240" cy="358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2743200" y="5867280"/>
            <a:ext cx="4038480" cy="762120"/>
          </a:xfrm>
          <a:custGeom>
            <a:avLst/>
            <a:gdLst>
              <a:gd name="textAreaLeft" fmla="*/ 49320 w 4038480"/>
              <a:gd name="textAreaRight" fmla="*/ 3989160 w 40384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114415" h="21600">
                <a:moveTo>
                  <a:pt x="0" y="0"/>
                </a:moveTo>
                <a:lnTo>
                  <a:pt x="114415" y="0"/>
                </a:lnTo>
                <a:lnTo>
                  <a:pt x="114415" y="21600"/>
                </a:lnTo>
                <a:lnTo>
                  <a:pt x="0" y="21600"/>
                </a:lnTo>
                <a:close/>
              </a:path>
              <a:path fill="lightenLess" w="114415" h="21600">
                <a:moveTo>
                  <a:pt x="0" y="0"/>
                </a:moveTo>
                <a:lnTo>
                  <a:pt x="114415" y="0"/>
                </a:lnTo>
                <a:lnTo>
                  <a:pt x="113015" y="1400"/>
                </a:lnTo>
                <a:lnTo>
                  <a:pt x="1400" y="1400"/>
                </a:lnTo>
                <a:close/>
              </a:path>
              <a:path fill="darken" w="114415" h="21600">
                <a:moveTo>
                  <a:pt x="114415" y="0"/>
                </a:moveTo>
                <a:lnTo>
                  <a:pt x="114415" y="21600"/>
                </a:lnTo>
                <a:lnTo>
                  <a:pt x="113015" y="20200"/>
                </a:lnTo>
                <a:lnTo>
                  <a:pt x="113015" y="1400"/>
                </a:lnTo>
                <a:close/>
              </a:path>
              <a:path fill="darkenLess" w="114415" h="21600">
                <a:moveTo>
                  <a:pt x="1144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3015" y="20200"/>
                </a:lnTo>
                <a:close/>
              </a:path>
              <a:path fill="lighten" w="1144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99"/>
          </a:solidFill>
          <a:ln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ack to Jeopard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066680" y="762120"/>
            <a:ext cx="7162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empus Sans ITC"/>
              </a:rPr>
              <a:t>200</a:t>
            </a:r>
            <a:r>
              <a:rPr b="0" lang="en-US" sz="2400" spc="-1" strike="noStrike">
                <a:solidFill>
                  <a:srgbClr val="000099"/>
                </a:solidFill>
                <a:latin typeface="Tempus Sans ITC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Tempus Sans ITC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Tempus Sans ITC"/>
              </a:rPr>
              <a:t>         Multiplying and Dividing Frac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3132000" y="1641600"/>
          <a:ext cx="3200400" cy="3581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132000" y="1641600"/>
                    <a:ext cx="3200400" cy="358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>
            <a:hlinkClick r:id="rId2" action="ppaction://hlinksldjump"/>
          </p:cNvPr>
          <p:cNvSpPr/>
          <p:nvPr/>
        </p:nvSpPr>
        <p:spPr>
          <a:xfrm>
            <a:off x="2743200" y="5867280"/>
            <a:ext cx="4038480" cy="762120"/>
          </a:xfrm>
          <a:custGeom>
            <a:avLst/>
            <a:gdLst>
              <a:gd name="textAreaLeft" fmla="*/ 49320 w 4038480"/>
              <a:gd name="textAreaRight" fmla="*/ 3989160 w 40384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114415" h="21600">
                <a:moveTo>
                  <a:pt x="0" y="0"/>
                </a:moveTo>
                <a:lnTo>
                  <a:pt x="114415" y="0"/>
                </a:lnTo>
                <a:lnTo>
                  <a:pt x="114415" y="21600"/>
                </a:lnTo>
                <a:lnTo>
                  <a:pt x="0" y="21600"/>
                </a:lnTo>
                <a:close/>
              </a:path>
              <a:path fill="lightenLess" w="114415" h="21600">
                <a:moveTo>
                  <a:pt x="0" y="0"/>
                </a:moveTo>
                <a:lnTo>
                  <a:pt x="114415" y="0"/>
                </a:lnTo>
                <a:lnTo>
                  <a:pt x="113015" y="1400"/>
                </a:lnTo>
                <a:lnTo>
                  <a:pt x="1400" y="1400"/>
                </a:lnTo>
                <a:close/>
              </a:path>
              <a:path fill="darken" w="114415" h="21600">
                <a:moveTo>
                  <a:pt x="114415" y="0"/>
                </a:moveTo>
                <a:lnTo>
                  <a:pt x="114415" y="21600"/>
                </a:lnTo>
                <a:lnTo>
                  <a:pt x="113015" y="20200"/>
                </a:lnTo>
                <a:lnTo>
                  <a:pt x="113015" y="1400"/>
                </a:lnTo>
                <a:close/>
              </a:path>
              <a:path fill="darkenLess" w="114415" h="21600">
                <a:moveTo>
                  <a:pt x="1144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3015" y="20200"/>
                </a:lnTo>
                <a:close/>
              </a:path>
              <a:path fill="lighten" w="1144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99"/>
          </a:solidFill>
          <a:ln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ack to Jeopard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066680" y="762120"/>
            <a:ext cx="716292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empus Sans ITC"/>
              </a:rPr>
              <a:t>400</a:t>
            </a:r>
            <a:r>
              <a:rPr b="0" lang="en-US" sz="2400" spc="-1" strike="noStrike">
                <a:solidFill>
                  <a:srgbClr val="000099"/>
                </a:solidFill>
                <a:latin typeface="Tempus Sans ITC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Tempus Sans ITC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Tempus Sans ITC"/>
              </a:rPr>
              <a:t>         Multiplying and Dividing Frac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3371760" y="1706400"/>
          <a:ext cx="2616120" cy="358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371760" y="1706400"/>
                    <a:ext cx="2616120" cy="358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066680" y="762120"/>
            <a:ext cx="7162920" cy="485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400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Tempus Sans ITC"/>
              </a:rPr>
              <a:t>Adding and Subtracting Integ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99"/>
                </a:solidFill>
                <a:latin typeface="Times New Roman"/>
              </a:rPr>
              <a:t>-11+-13</a:t>
            </a:r>
            <a:endParaRPr b="0" lang="en-US" sz="15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>
            <a:hlinkClick r:id="" action="ppaction://hlinkshowjump?jump=firstslide"/>
          </p:cNvPr>
          <p:cNvSpPr/>
          <p:nvPr/>
        </p:nvSpPr>
        <p:spPr>
          <a:xfrm>
            <a:off x="2590920" y="5791320"/>
            <a:ext cx="4038480" cy="761760"/>
          </a:xfrm>
          <a:custGeom>
            <a:avLst/>
            <a:gdLst>
              <a:gd name="textAreaLeft" fmla="*/ 49320 w 4038480"/>
              <a:gd name="textAreaRight" fmla="*/ 3989160 w 403848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114469" h="21600">
                <a:moveTo>
                  <a:pt x="0" y="0"/>
                </a:moveTo>
                <a:lnTo>
                  <a:pt x="114469" y="0"/>
                </a:lnTo>
                <a:lnTo>
                  <a:pt x="114469" y="21600"/>
                </a:lnTo>
                <a:lnTo>
                  <a:pt x="0" y="21600"/>
                </a:lnTo>
                <a:close/>
              </a:path>
              <a:path fill="lightenLess" w="114469" h="21600">
                <a:moveTo>
                  <a:pt x="0" y="0"/>
                </a:moveTo>
                <a:lnTo>
                  <a:pt x="114469" y="0"/>
                </a:lnTo>
                <a:lnTo>
                  <a:pt x="113069" y="1400"/>
                </a:lnTo>
                <a:lnTo>
                  <a:pt x="1400" y="1400"/>
                </a:lnTo>
                <a:close/>
              </a:path>
              <a:path fill="darken" w="114469" h="21600">
                <a:moveTo>
                  <a:pt x="114469" y="0"/>
                </a:moveTo>
                <a:lnTo>
                  <a:pt x="114469" y="21600"/>
                </a:lnTo>
                <a:lnTo>
                  <a:pt x="113069" y="20200"/>
                </a:lnTo>
                <a:lnTo>
                  <a:pt x="113069" y="1400"/>
                </a:lnTo>
                <a:close/>
              </a:path>
              <a:path fill="darkenLess" w="114469" h="21600">
                <a:moveTo>
                  <a:pt x="1144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3069" y="20200"/>
                </a:lnTo>
                <a:close/>
              </a:path>
              <a:path fill="lighten" w="1144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99"/>
          </a:solidFill>
          <a:ln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ack to Jeopard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>
            <a:hlinkClick r:id="rId2" action="ppaction://hlinksldjump"/>
          </p:cNvPr>
          <p:cNvSpPr/>
          <p:nvPr/>
        </p:nvSpPr>
        <p:spPr>
          <a:xfrm>
            <a:off x="2743200" y="5867280"/>
            <a:ext cx="4038480" cy="762120"/>
          </a:xfrm>
          <a:custGeom>
            <a:avLst/>
            <a:gdLst>
              <a:gd name="textAreaLeft" fmla="*/ 49320 w 4038480"/>
              <a:gd name="textAreaRight" fmla="*/ 3989160 w 40384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114415" h="21600">
                <a:moveTo>
                  <a:pt x="0" y="0"/>
                </a:moveTo>
                <a:lnTo>
                  <a:pt x="114415" y="0"/>
                </a:lnTo>
                <a:lnTo>
                  <a:pt x="114415" y="21600"/>
                </a:lnTo>
                <a:lnTo>
                  <a:pt x="0" y="21600"/>
                </a:lnTo>
                <a:close/>
              </a:path>
              <a:path fill="lightenLess" w="114415" h="21600">
                <a:moveTo>
                  <a:pt x="0" y="0"/>
                </a:moveTo>
                <a:lnTo>
                  <a:pt x="114415" y="0"/>
                </a:lnTo>
                <a:lnTo>
                  <a:pt x="113015" y="1400"/>
                </a:lnTo>
                <a:lnTo>
                  <a:pt x="1400" y="1400"/>
                </a:lnTo>
                <a:close/>
              </a:path>
              <a:path fill="darken" w="114415" h="21600">
                <a:moveTo>
                  <a:pt x="114415" y="0"/>
                </a:moveTo>
                <a:lnTo>
                  <a:pt x="114415" y="21600"/>
                </a:lnTo>
                <a:lnTo>
                  <a:pt x="113015" y="20200"/>
                </a:lnTo>
                <a:lnTo>
                  <a:pt x="113015" y="1400"/>
                </a:lnTo>
                <a:close/>
              </a:path>
              <a:path fill="darkenLess" w="114415" h="21600">
                <a:moveTo>
                  <a:pt x="1144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3015" y="20200"/>
                </a:lnTo>
                <a:close/>
              </a:path>
              <a:path fill="lighten" w="1144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99"/>
          </a:solidFill>
          <a:ln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ack to Jeopard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066680" y="762120"/>
            <a:ext cx="71629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empus Sans ITC"/>
              </a:rPr>
              <a:t>600</a:t>
            </a:r>
            <a:r>
              <a:rPr b="0" lang="en-US" sz="2400" spc="-1" strike="noStrike">
                <a:solidFill>
                  <a:srgbClr val="000099"/>
                </a:solidFill>
                <a:latin typeface="Tempus Sans ITC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Tempus Sans ITC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Tempus Sans ITC"/>
              </a:rPr>
              <a:t>         Multiplying and Dividing Frac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2587680" y="1735200"/>
          <a:ext cx="4267080" cy="358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87680" y="1735200"/>
                    <a:ext cx="4267080" cy="358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>
            <a:hlinkClick r:id="" action="ppaction://hlinkshowjump?jump=firstslide"/>
          </p:cNvPr>
          <p:cNvSpPr/>
          <p:nvPr/>
        </p:nvSpPr>
        <p:spPr>
          <a:xfrm>
            <a:off x="2743200" y="5867280"/>
            <a:ext cx="4038480" cy="762120"/>
          </a:xfrm>
          <a:custGeom>
            <a:avLst/>
            <a:gdLst>
              <a:gd name="textAreaLeft" fmla="*/ 49320 w 4038480"/>
              <a:gd name="textAreaRight" fmla="*/ 3989160 w 40384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114415" h="21600">
                <a:moveTo>
                  <a:pt x="0" y="0"/>
                </a:moveTo>
                <a:lnTo>
                  <a:pt x="114415" y="0"/>
                </a:lnTo>
                <a:lnTo>
                  <a:pt x="114415" y="21600"/>
                </a:lnTo>
                <a:lnTo>
                  <a:pt x="0" y="21600"/>
                </a:lnTo>
                <a:close/>
              </a:path>
              <a:path fill="lightenLess" w="114415" h="21600">
                <a:moveTo>
                  <a:pt x="0" y="0"/>
                </a:moveTo>
                <a:lnTo>
                  <a:pt x="114415" y="0"/>
                </a:lnTo>
                <a:lnTo>
                  <a:pt x="113015" y="1400"/>
                </a:lnTo>
                <a:lnTo>
                  <a:pt x="1400" y="1400"/>
                </a:lnTo>
                <a:close/>
              </a:path>
              <a:path fill="darken" w="114415" h="21600">
                <a:moveTo>
                  <a:pt x="114415" y="0"/>
                </a:moveTo>
                <a:lnTo>
                  <a:pt x="114415" y="21600"/>
                </a:lnTo>
                <a:lnTo>
                  <a:pt x="113015" y="20200"/>
                </a:lnTo>
                <a:lnTo>
                  <a:pt x="113015" y="1400"/>
                </a:lnTo>
                <a:close/>
              </a:path>
              <a:path fill="darkenLess" w="114415" h="21600">
                <a:moveTo>
                  <a:pt x="1144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3015" y="20200"/>
                </a:lnTo>
                <a:close/>
              </a:path>
              <a:path fill="lighten" w="1144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99"/>
          </a:solidFill>
          <a:ln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ack to Jeopard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066680" y="762120"/>
            <a:ext cx="71629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empus Sans ITC"/>
              </a:rPr>
              <a:t>800</a:t>
            </a:r>
            <a:r>
              <a:rPr b="0" lang="en-US" sz="2400" spc="-1" strike="noStrike">
                <a:solidFill>
                  <a:srgbClr val="000099"/>
                </a:solidFill>
                <a:latin typeface="Tempus Sans ITC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Tempus Sans ITC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Tempus Sans ITC"/>
              </a:rPr>
              <a:t>         Multiplying and Dividing Frac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2081160" y="1951200"/>
          <a:ext cx="5143680" cy="3581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081160" y="1951200"/>
                    <a:ext cx="5143680" cy="358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>
            <a:hlinkClick r:id="rId2" action="ppaction://hlinksldjump"/>
          </p:cNvPr>
          <p:cNvSpPr/>
          <p:nvPr/>
        </p:nvSpPr>
        <p:spPr>
          <a:xfrm>
            <a:off x="2743200" y="5867280"/>
            <a:ext cx="4038480" cy="762120"/>
          </a:xfrm>
          <a:custGeom>
            <a:avLst/>
            <a:gdLst>
              <a:gd name="textAreaLeft" fmla="*/ 49320 w 4038480"/>
              <a:gd name="textAreaRight" fmla="*/ 3989160 w 40384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114415" h="21600">
                <a:moveTo>
                  <a:pt x="0" y="0"/>
                </a:moveTo>
                <a:lnTo>
                  <a:pt x="114415" y="0"/>
                </a:lnTo>
                <a:lnTo>
                  <a:pt x="114415" y="21600"/>
                </a:lnTo>
                <a:lnTo>
                  <a:pt x="0" y="21600"/>
                </a:lnTo>
                <a:close/>
              </a:path>
              <a:path fill="lightenLess" w="114415" h="21600">
                <a:moveTo>
                  <a:pt x="0" y="0"/>
                </a:moveTo>
                <a:lnTo>
                  <a:pt x="114415" y="0"/>
                </a:lnTo>
                <a:lnTo>
                  <a:pt x="113015" y="1400"/>
                </a:lnTo>
                <a:lnTo>
                  <a:pt x="1400" y="1400"/>
                </a:lnTo>
                <a:close/>
              </a:path>
              <a:path fill="darken" w="114415" h="21600">
                <a:moveTo>
                  <a:pt x="114415" y="0"/>
                </a:moveTo>
                <a:lnTo>
                  <a:pt x="114415" y="21600"/>
                </a:lnTo>
                <a:lnTo>
                  <a:pt x="113015" y="20200"/>
                </a:lnTo>
                <a:lnTo>
                  <a:pt x="113015" y="1400"/>
                </a:lnTo>
                <a:close/>
              </a:path>
              <a:path fill="darkenLess" w="114415" h="21600">
                <a:moveTo>
                  <a:pt x="1144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3015" y="20200"/>
                </a:lnTo>
                <a:close/>
              </a:path>
              <a:path fill="lighten" w="1144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99"/>
          </a:solidFill>
          <a:ln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ack to Jeopard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066680" y="762120"/>
            <a:ext cx="71629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empus Sans ITC"/>
              </a:rPr>
              <a:t>1000</a:t>
            </a:r>
            <a:r>
              <a:rPr b="0" lang="en-US" sz="2400" spc="-1" strike="noStrike">
                <a:solidFill>
                  <a:srgbClr val="000099"/>
                </a:solidFill>
                <a:latin typeface="Tempus Sans ITC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Tempus Sans ITC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Tempus Sans ITC"/>
              </a:rPr>
              <a:t>         Multiplying and Dividing Frac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2013120" y="1951200"/>
          <a:ext cx="5143320" cy="358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013120" y="1951200"/>
                    <a:ext cx="5143320" cy="358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066680" y="762120"/>
            <a:ext cx="7162920" cy="485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600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Tempus Sans ITC"/>
              </a:rPr>
              <a:t>Adding and Subtracting Integ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99"/>
                </a:solidFill>
                <a:latin typeface="Times New Roman"/>
              </a:rPr>
              <a:t>12-(-13)</a:t>
            </a:r>
            <a:endParaRPr b="0" lang="en-US" sz="15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2743200" y="5791320"/>
            <a:ext cx="4038480" cy="761760"/>
          </a:xfrm>
          <a:custGeom>
            <a:avLst/>
            <a:gdLst>
              <a:gd name="textAreaLeft" fmla="*/ 49320 w 4038480"/>
              <a:gd name="textAreaRight" fmla="*/ 3989160 w 403848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114469" h="21600">
                <a:moveTo>
                  <a:pt x="0" y="0"/>
                </a:moveTo>
                <a:lnTo>
                  <a:pt x="114469" y="0"/>
                </a:lnTo>
                <a:lnTo>
                  <a:pt x="114469" y="21600"/>
                </a:lnTo>
                <a:lnTo>
                  <a:pt x="0" y="21600"/>
                </a:lnTo>
                <a:close/>
              </a:path>
              <a:path fill="lightenLess" w="114469" h="21600">
                <a:moveTo>
                  <a:pt x="0" y="0"/>
                </a:moveTo>
                <a:lnTo>
                  <a:pt x="114469" y="0"/>
                </a:lnTo>
                <a:lnTo>
                  <a:pt x="113069" y="1400"/>
                </a:lnTo>
                <a:lnTo>
                  <a:pt x="1400" y="1400"/>
                </a:lnTo>
                <a:close/>
              </a:path>
              <a:path fill="darken" w="114469" h="21600">
                <a:moveTo>
                  <a:pt x="114469" y="0"/>
                </a:moveTo>
                <a:lnTo>
                  <a:pt x="114469" y="21600"/>
                </a:lnTo>
                <a:lnTo>
                  <a:pt x="113069" y="20200"/>
                </a:lnTo>
                <a:lnTo>
                  <a:pt x="113069" y="1400"/>
                </a:lnTo>
                <a:close/>
              </a:path>
              <a:path fill="darkenLess" w="114469" h="21600">
                <a:moveTo>
                  <a:pt x="1144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3069" y="20200"/>
                </a:lnTo>
                <a:close/>
              </a:path>
              <a:path fill="lighten" w="1144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99"/>
          </a:solidFill>
          <a:ln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ack to Jeopard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066680" y="762120"/>
            <a:ext cx="7526520" cy="77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800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Tempus Sans ITC"/>
              </a:rPr>
              <a:t>Adding and Subtracting Integ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99"/>
                </a:solidFill>
                <a:latin typeface="Times New Roman"/>
              </a:rPr>
              <a:t>-22-(-33)</a:t>
            </a:r>
            <a:endParaRPr b="0" lang="en-US" sz="15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>
            <a:hlinkClick r:id="rId2" action="ppaction://hlinksldjump"/>
          </p:cNvPr>
          <p:cNvSpPr/>
          <p:nvPr/>
        </p:nvSpPr>
        <p:spPr>
          <a:xfrm>
            <a:off x="2743200" y="5867280"/>
            <a:ext cx="4038480" cy="762120"/>
          </a:xfrm>
          <a:custGeom>
            <a:avLst/>
            <a:gdLst>
              <a:gd name="textAreaLeft" fmla="*/ 49320 w 4038480"/>
              <a:gd name="textAreaRight" fmla="*/ 3989160 w 40384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114415" h="21600">
                <a:moveTo>
                  <a:pt x="0" y="0"/>
                </a:moveTo>
                <a:lnTo>
                  <a:pt x="114415" y="0"/>
                </a:lnTo>
                <a:lnTo>
                  <a:pt x="114415" y="21600"/>
                </a:lnTo>
                <a:lnTo>
                  <a:pt x="0" y="21600"/>
                </a:lnTo>
                <a:close/>
              </a:path>
              <a:path fill="lightenLess" w="114415" h="21600">
                <a:moveTo>
                  <a:pt x="0" y="0"/>
                </a:moveTo>
                <a:lnTo>
                  <a:pt x="114415" y="0"/>
                </a:lnTo>
                <a:lnTo>
                  <a:pt x="113015" y="1400"/>
                </a:lnTo>
                <a:lnTo>
                  <a:pt x="1400" y="1400"/>
                </a:lnTo>
                <a:close/>
              </a:path>
              <a:path fill="darken" w="114415" h="21600">
                <a:moveTo>
                  <a:pt x="114415" y="0"/>
                </a:moveTo>
                <a:lnTo>
                  <a:pt x="114415" y="21600"/>
                </a:lnTo>
                <a:lnTo>
                  <a:pt x="113015" y="20200"/>
                </a:lnTo>
                <a:lnTo>
                  <a:pt x="113015" y="1400"/>
                </a:lnTo>
                <a:close/>
              </a:path>
              <a:path fill="darkenLess" w="114415" h="21600">
                <a:moveTo>
                  <a:pt x="1144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3015" y="20200"/>
                </a:lnTo>
                <a:close/>
              </a:path>
              <a:path fill="lighten" w="1144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99"/>
          </a:solidFill>
          <a:ln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ack to Jeopard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685800" y="762120"/>
            <a:ext cx="7961400" cy="39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1000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Tempus Sans ITC"/>
              </a:rPr>
              <a:t>Adding and Subtracting Integ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99"/>
                </a:solidFill>
                <a:latin typeface="Times New Roman"/>
              </a:rPr>
              <a:t>-3-(-5)+-7</a:t>
            </a:r>
            <a:endParaRPr b="0" lang="en-US" sz="15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>
            <a:hlinkClick r:id="" action="ppaction://hlinkshowjump?jump=firstslide"/>
          </p:cNvPr>
          <p:cNvSpPr/>
          <p:nvPr/>
        </p:nvSpPr>
        <p:spPr>
          <a:xfrm>
            <a:off x="2743200" y="5867280"/>
            <a:ext cx="4038480" cy="762120"/>
          </a:xfrm>
          <a:custGeom>
            <a:avLst/>
            <a:gdLst>
              <a:gd name="textAreaLeft" fmla="*/ 49320 w 4038480"/>
              <a:gd name="textAreaRight" fmla="*/ 3989160 w 40384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114415" h="21600">
                <a:moveTo>
                  <a:pt x="0" y="0"/>
                </a:moveTo>
                <a:lnTo>
                  <a:pt x="114415" y="0"/>
                </a:lnTo>
                <a:lnTo>
                  <a:pt x="114415" y="21600"/>
                </a:lnTo>
                <a:lnTo>
                  <a:pt x="0" y="21600"/>
                </a:lnTo>
                <a:close/>
              </a:path>
              <a:path fill="lightenLess" w="114415" h="21600">
                <a:moveTo>
                  <a:pt x="0" y="0"/>
                </a:moveTo>
                <a:lnTo>
                  <a:pt x="114415" y="0"/>
                </a:lnTo>
                <a:lnTo>
                  <a:pt x="113015" y="1400"/>
                </a:lnTo>
                <a:lnTo>
                  <a:pt x="1400" y="1400"/>
                </a:lnTo>
                <a:close/>
              </a:path>
              <a:path fill="darken" w="114415" h="21600">
                <a:moveTo>
                  <a:pt x="114415" y="0"/>
                </a:moveTo>
                <a:lnTo>
                  <a:pt x="114415" y="21600"/>
                </a:lnTo>
                <a:lnTo>
                  <a:pt x="113015" y="20200"/>
                </a:lnTo>
                <a:lnTo>
                  <a:pt x="113015" y="1400"/>
                </a:lnTo>
                <a:close/>
              </a:path>
              <a:path fill="darkenLess" w="114415" h="21600">
                <a:moveTo>
                  <a:pt x="1144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3015" y="20200"/>
                </a:lnTo>
                <a:close/>
              </a:path>
              <a:path fill="lighten" w="1144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99"/>
          </a:solidFill>
          <a:ln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ack to Jeopard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066680" y="762120"/>
            <a:ext cx="7526520" cy="43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empus Sans ITC"/>
              </a:rPr>
              <a:t>200</a:t>
            </a:r>
            <a:r>
              <a:rPr b="0" lang="en-US" sz="2400" spc="-1" strike="noStrike">
                <a:solidFill>
                  <a:srgbClr val="000099"/>
                </a:solidFill>
                <a:latin typeface="Tempus Sans ITC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Tempus Sans ITC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Tempus Sans ITC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Tempus Sans ITC"/>
              </a:rPr>
              <a:t>Multiplying and Dividing Integ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99"/>
                </a:solidFill>
                <a:latin typeface="Times New Roman"/>
              </a:rPr>
              <a:t>7</a:t>
            </a:r>
            <a:r>
              <a:rPr b="0" lang="en-US" sz="15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•-9</a:t>
            </a:r>
            <a:endParaRPr b="0" lang="en-US" sz="15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>
            <a:hlinkClick r:id="" action="ppaction://hlinkshowjump?jump=firstslide"/>
          </p:cNvPr>
          <p:cNvSpPr/>
          <p:nvPr/>
        </p:nvSpPr>
        <p:spPr>
          <a:xfrm>
            <a:off x="2743200" y="5867280"/>
            <a:ext cx="4038480" cy="762120"/>
          </a:xfrm>
          <a:custGeom>
            <a:avLst/>
            <a:gdLst>
              <a:gd name="textAreaLeft" fmla="*/ 49320 w 4038480"/>
              <a:gd name="textAreaRight" fmla="*/ 3989160 w 40384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114415" h="21600">
                <a:moveTo>
                  <a:pt x="0" y="0"/>
                </a:moveTo>
                <a:lnTo>
                  <a:pt x="114415" y="0"/>
                </a:lnTo>
                <a:lnTo>
                  <a:pt x="114415" y="21600"/>
                </a:lnTo>
                <a:lnTo>
                  <a:pt x="0" y="21600"/>
                </a:lnTo>
                <a:close/>
              </a:path>
              <a:path fill="lightenLess" w="114415" h="21600">
                <a:moveTo>
                  <a:pt x="0" y="0"/>
                </a:moveTo>
                <a:lnTo>
                  <a:pt x="114415" y="0"/>
                </a:lnTo>
                <a:lnTo>
                  <a:pt x="113015" y="1400"/>
                </a:lnTo>
                <a:lnTo>
                  <a:pt x="1400" y="1400"/>
                </a:lnTo>
                <a:close/>
              </a:path>
              <a:path fill="darken" w="114415" h="21600">
                <a:moveTo>
                  <a:pt x="114415" y="0"/>
                </a:moveTo>
                <a:lnTo>
                  <a:pt x="114415" y="21600"/>
                </a:lnTo>
                <a:lnTo>
                  <a:pt x="113015" y="20200"/>
                </a:lnTo>
                <a:lnTo>
                  <a:pt x="113015" y="1400"/>
                </a:lnTo>
                <a:close/>
              </a:path>
              <a:path fill="darkenLess" w="114415" h="21600">
                <a:moveTo>
                  <a:pt x="1144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3015" y="20200"/>
                </a:lnTo>
                <a:close/>
              </a:path>
              <a:path fill="lighten" w="1144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99"/>
          </a:solidFill>
          <a:ln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ack to Jeopard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066680" y="762120"/>
            <a:ext cx="7553520" cy="77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empus Sans ITC"/>
              </a:rPr>
              <a:t>400</a:t>
            </a:r>
            <a:r>
              <a:rPr b="0" lang="en-US" sz="2400" spc="-1" strike="noStrike">
                <a:solidFill>
                  <a:srgbClr val="000099"/>
                </a:solidFill>
                <a:latin typeface="Tempus Sans ITC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Tempus Sans ITC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Tempus Sans ITC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Tempus Sans ITC"/>
              </a:rPr>
              <a:t> Multiplying and Dividing Integ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99"/>
                </a:solidFill>
                <a:latin typeface="Times New Roman"/>
              </a:rPr>
              <a:t>10</a:t>
            </a:r>
            <a:r>
              <a:rPr b="0" lang="en-US" sz="15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•-2</a:t>
            </a:r>
            <a:endParaRPr b="0" lang="en-US" sz="15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>
            <a:hlinkClick r:id="" action="ppaction://hlinkshowjump?jump=firstslide"/>
          </p:cNvPr>
          <p:cNvSpPr/>
          <p:nvPr/>
        </p:nvSpPr>
        <p:spPr>
          <a:xfrm>
            <a:off x="2743200" y="5867280"/>
            <a:ext cx="4038480" cy="762120"/>
          </a:xfrm>
          <a:custGeom>
            <a:avLst/>
            <a:gdLst>
              <a:gd name="textAreaLeft" fmla="*/ 49320 w 4038480"/>
              <a:gd name="textAreaRight" fmla="*/ 3989160 w 40384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114415" h="21600">
                <a:moveTo>
                  <a:pt x="0" y="0"/>
                </a:moveTo>
                <a:lnTo>
                  <a:pt x="114415" y="0"/>
                </a:lnTo>
                <a:lnTo>
                  <a:pt x="114415" y="21600"/>
                </a:lnTo>
                <a:lnTo>
                  <a:pt x="0" y="21600"/>
                </a:lnTo>
                <a:close/>
              </a:path>
              <a:path fill="lightenLess" w="114415" h="21600">
                <a:moveTo>
                  <a:pt x="0" y="0"/>
                </a:moveTo>
                <a:lnTo>
                  <a:pt x="114415" y="0"/>
                </a:lnTo>
                <a:lnTo>
                  <a:pt x="113015" y="1400"/>
                </a:lnTo>
                <a:lnTo>
                  <a:pt x="1400" y="1400"/>
                </a:lnTo>
                <a:close/>
              </a:path>
              <a:path fill="darken" w="114415" h="21600">
                <a:moveTo>
                  <a:pt x="114415" y="0"/>
                </a:moveTo>
                <a:lnTo>
                  <a:pt x="114415" y="21600"/>
                </a:lnTo>
                <a:lnTo>
                  <a:pt x="113015" y="20200"/>
                </a:lnTo>
                <a:lnTo>
                  <a:pt x="113015" y="1400"/>
                </a:lnTo>
                <a:close/>
              </a:path>
              <a:path fill="darkenLess" w="114415" h="21600">
                <a:moveTo>
                  <a:pt x="1144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3015" y="20200"/>
                </a:lnTo>
                <a:close/>
              </a:path>
              <a:path fill="lighten" w="1144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99"/>
          </a:solidFill>
          <a:ln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ack to Jeopard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066680" y="762120"/>
            <a:ext cx="7431120" cy="43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empus Sans ITC"/>
              </a:rPr>
              <a:t>600</a:t>
            </a:r>
            <a:r>
              <a:rPr b="0" lang="en-US" sz="2400" spc="-1" strike="noStrike">
                <a:solidFill>
                  <a:srgbClr val="000099"/>
                </a:solidFill>
                <a:latin typeface="Tempus Sans ITC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Tempus Sans ITC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Tempus Sans ITC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Tempus Sans ITC"/>
              </a:rPr>
              <a:t> Multiplying and Dividing Integ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0" spc="-1" strike="noStrike">
                <a:solidFill>
                  <a:srgbClr val="000099"/>
                </a:solidFill>
                <a:latin typeface="Times New Roman"/>
              </a:rPr>
              <a:t>-8</a:t>
            </a:r>
            <a:r>
              <a:rPr b="1" lang="en-US" sz="15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•-7</a:t>
            </a:r>
            <a:endParaRPr b="0" lang="en-US" sz="15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>
            <a:hlinkClick r:id="" action="ppaction://hlinkshowjump?jump=firstslide"/>
          </p:cNvPr>
          <p:cNvSpPr/>
          <p:nvPr/>
        </p:nvSpPr>
        <p:spPr>
          <a:xfrm>
            <a:off x="2743200" y="5867280"/>
            <a:ext cx="4038480" cy="762120"/>
          </a:xfrm>
          <a:custGeom>
            <a:avLst/>
            <a:gdLst>
              <a:gd name="textAreaLeft" fmla="*/ 49320 w 4038480"/>
              <a:gd name="textAreaRight" fmla="*/ 3989160 w 40384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114415" h="21600">
                <a:moveTo>
                  <a:pt x="0" y="0"/>
                </a:moveTo>
                <a:lnTo>
                  <a:pt x="114415" y="0"/>
                </a:lnTo>
                <a:lnTo>
                  <a:pt x="114415" y="21600"/>
                </a:lnTo>
                <a:lnTo>
                  <a:pt x="0" y="21600"/>
                </a:lnTo>
                <a:close/>
              </a:path>
              <a:path fill="lightenLess" w="114415" h="21600">
                <a:moveTo>
                  <a:pt x="0" y="0"/>
                </a:moveTo>
                <a:lnTo>
                  <a:pt x="114415" y="0"/>
                </a:lnTo>
                <a:lnTo>
                  <a:pt x="113015" y="1400"/>
                </a:lnTo>
                <a:lnTo>
                  <a:pt x="1400" y="1400"/>
                </a:lnTo>
                <a:close/>
              </a:path>
              <a:path fill="darken" w="114415" h="21600">
                <a:moveTo>
                  <a:pt x="114415" y="0"/>
                </a:moveTo>
                <a:lnTo>
                  <a:pt x="114415" y="21600"/>
                </a:lnTo>
                <a:lnTo>
                  <a:pt x="113015" y="20200"/>
                </a:lnTo>
                <a:lnTo>
                  <a:pt x="113015" y="1400"/>
                </a:lnTo>
                <a:close/>
              </a:path>
              <a:path fill="darkenLess" w="114415" h="21600">
                <a:moveTo>
                  <a:pt x="1144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3015" y="20200"/>
                </a:lnTo>
                <a:close/>
              </a:path>
              <a:path fill="lighten" w="1144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99"/>
          </a:solidFill>
          <a:ln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ack to Jeopard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09T23:10:20Z</dcterms:created>
  <dc:creator>Sean Fitz</dc:creator>
  <dc:description/>
  <dc:language>en-US</dc:language>
  <cp:lastModifiedBy>WCPSS</cp:lastModifiedBy>
  <dcterms:modified xsi:type="dcterms:W3CDTF">2003-08-25T15:52:38Z</dcterms:modified>
  <cp:revision>22</cp:revision>
  <dc:subject/>
  <dc:title>J E O P A R D Y !!!</dc:title>
</cp:coreProperties>
</file>